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13716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958680" y="720360"/>
            <a:ext cx="539784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947157E9-3FDA-4D71-ADDE-75556147E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9A3C549-2319-4836-A0A2-CE0E40D59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57240" y="719280"/>
            <a:ext cx="5400720" cy="360036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592FE9AF-3B40-4303-A928-5DB2FFED1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ACBB47A3-D0D8-42B7-A70F-DA70B3598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7B1A7C08-BAC0-475E-B8C1-4D20C1107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04D9DB4D-5320-4F37-85D1-F7CF48CDC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F23873F2-0861-40CA-A44C-448C9F386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60C14D6D-D9F0-46A8-A860-6F3AF4820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17E8E74F-BFA6-4E5F-BE34-DF6D334A6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C71FE64E-11AB-447A-8B59-797BB3FAC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D74E379B-ACF1-446A-B416-541A06135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3D1CCE75-985F-4F5D-B88D-B8E4E3F0B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BA3C12BB-9DE8-47A9-8214-3E52741F1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F5859F81-C98D-4311-B2ED-681E23DC3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EFDC00EA-126C-4585-97D9-6B35EAC48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4E206DD5-5BD0-4361-8BF2-C73946EC7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7E5AF944-F370-405D-8964-0DDD00709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186BA848-8E29-4A3F-B79A-A4B88E01C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758BBEF0-7089-4E65-B524-60A7A4F03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ED45D208-1B4F-47F1-808C-4577DC32F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3C31F0EE-A1F0-472B-9BD2-29AAF31AA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116A4C6-7E24-487A-8BCC-F82D6E30E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B6D985B3-9B8B-4029-9070-F4A62147C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F5061BCF-8D44-4840-B091-6629D2AEE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BB4F5789-68BA-41A2-8A2C-B866A8125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1F0F4A02-2BFE-4D48-A4C1-39DAAFB53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21A99E05-103D-469B-A981-2873C40D1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DDA49E4E-1B92-4D80-9A70-EF7EB2FA2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58680" y="720720"/>
            <a:ext cx="5397840" cy="35989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377B5EC5-988E-49F0-B6B5-1EC9ADD33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1DD-A8EE-44C2-8815-BB228B5C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4C5-6786-447A-BE73-E0375D89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936-83D9-4505-9A78-94D56884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AA1-F65C-4A6B-ABE8-44E48C12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443D-EC26-4515-9D17-F63B71FD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A58F-DE13-46C1-9C79-BD6CD5AF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0ECF-79CF-4D7B-A41B-46F06D8D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B39B-BEF3-4BFF-B170-4A7948EF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48F8-9BA4-4D7A-B8D9-6B48FA9B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1DB7-8B20-446E-A4E1-BC4F496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DB7-2683-4CA3-874A-FB4AA75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440-8EE5-41D0-AF88-64408D67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919D-504D-40EB-8B79-34D5FFB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5CD6-D971-418A-8908-3C7E185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B356-671D-404F-B361-099D2DCE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2E6B-EF16-4160-93C6-0B2AC88E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9AF9-B79B-4633-A412-42A9739D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FDE-7A34-42C8-8224-FC2871D2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B0E-97A7-46D8-9E0C-1FCA1BB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145-2140-4A25-A6D4-5D2E963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611-3524-498B-8D2C-DB3D3448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C0D-F0BF-4787-BC47-C709BC4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0F7-FEE2-4C1C-9DF5-0E147957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2AA9-AEFC-4DD5-BB16-C25EFDBE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BE5C-6768-4E58-B661-98102B7A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7477-FDC2-43E0-AEE7-6D00A796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1E82-D06D-4C98-9367-791BA808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2428-8F8C-41A5-ADC6-59AF5F80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C3C-4155-4FD1-86EB-E172933D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55240" y="-606240"/>
            <a:ext cx="13208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algn="ctr"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9A25-1ED7-4397-B409-9F288BA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7010-ED99-464A-A069-924BF04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5FF2-1A4C-4E73-85E9-4B49CF5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81E8-44E4-4CD8-9124-012E14D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5600" y="5378760"/>
            <a:ext cx="1323504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C618-45AA-42F9-81A1-561BE63E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7037280" y="236052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560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037280" y="5378760"/>
            <a:ext cx="645840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FCCD-6283-4844-857A-5F1849AC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04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205200" y="236052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556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7304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9205200" y="5378760"/>
            <a:ext cx="4261320" cy="27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258D-6ABE-405D-9952-698EA560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55600" y="1495080"/>
            <a:ext cx="13235040" cy="75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1160" indent="0" algn="ctr"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07800" y="848808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560" y="8488080"/>
            <a:ext cx="9366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207800" y="8702640"/>
            <a:ext cx="3200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GB" sz="16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Slide </a:t>
            </a:r>
            <a:fld id="{D4D7BC51-3CDB-45AE-8083-298481D1E382}" type="slidenum"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78FD87CE-EAED-4D35-871A-F685EA9E4796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8720280" y="8451720"/>
            <a:ext cx="4781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0" tIns="65160" bIns="0" anchor="b">
            <a:noAutofit/>
          </a:bodyPr>
          <a:p>
            <a:pPr algn="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43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207800" y="848808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77560" y="8488080"/>
            <a:ext cx="9366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0207800" y="8702640"/>
            <a:ext cx="3200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GB" sz="16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Slide </a:t>
            </a:r>
            <a:fld id="{43DB4F60-19DE-4428-8025-333AF6F4DE70}" type="slidenum">
              <a:rPr b="0" lang="en-GB" sz="16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506F072B-5F92-4221-906D-D83396CB08DB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94F5F664-08C1-46DF-89AA-3EF82652C2B9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6FDB5263-5D09-49C2-8610-7FF7791E8417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BE228D7E-F210-49F6-8E63-178F1B363D78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217C5A70-93E1-4AF0-B926-EE91A3A82A89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liennummernplatzhalter 5"/>
          <p:cNvSpPr/>
          <p:nvPr/>
        </p:nvSpPr>
        <p:spPr>
          <a:xfrm>
            <a:off x="5086440" y="8636040"/>
            <a:ext cx="3200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1600" spc="-1" strike="noStrike">
                <a:solidFill>
                  <a:srgbClr val="2666a6"/>
                </a:solidFill>
                <a:latin typeface="Arial"/>
              </a:rPr>
              <a:t>Slide </a:t>
            </a:r>
            <a:fld id="{496BF8D2-D481-4410-9F76-4C5F6FB6755D}" type="slidenum">
              <a:rPr b="0" lang="en-GB" sz="1600" spc="-1" strike="noStrike">
                <a:solidFill>
                  <a:srgbClr val="2666a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9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7"/>
          </p:nvPr>
        </p:nvSpPr>
        <p:spPr>
          <a:xfrm>
            <a:off x="10207800" y="848808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8"/>
          </p:nvPr>
        </p:nvSpPr>
        <p:spPr>
          <a:xfrm>
            <a:off x="277560" y="8488080"/>
            <a:ext cx="9366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9"/>
          </p:nvPr>
        </p:nvSpPr>
        <p:spPr>
          <a:xfrm>
            <a:off x="10207800" y="8702640"/>
            <a:ext cx="3200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  <a:defRPr b="0" lang="en-US" sz="16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03DDD558-CCC0-40A4-AA33-61917B495DEB}" type="slidenum">
              <a:rPr b="0" lang="en-US" sz="16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8720280" y="8451720"/>
            <a:ext cx="4781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0" tIns="65160" bIns="0" anchor="b">
            <a:noAutofit/>
          </a:bodyPr>
          <a:p>
            <a:pPr algn="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GB" sz="4300" spc="-1" strike="noStrike">
                <a:solidFill>
                  <a:srgbClr val="3a4972"/>
                </a:solidFill>
                <a:latin typeface="PwC_Logo"/>
              </a:rPr>
              <a:t>Pw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55600" y="2360520"/>
            <a:ext cx="1323504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0343808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2556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2" marL="565200" indent="-30816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873000" indent="-255600">
              <a:buClr>
                <a:srgbClr val="2666a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284120" indent="-307800">
              <a:buClr>
                <a:srgbClr val="2666a6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5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6" marL="1284120" indent="-307800"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72"/>
          <p:cNvSpPr/>
          <p:nvPr/>
        </p:nvSpPr>
        <p:spPr>
          <a:xfrm>
            <a:off x="127080" y="1459080"/>
            <a:ext cx="13316040" cy="65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2520" tIns="0" bIns="0" anchor="t">
            <a:spAutoFit/>
          </a:bodyPr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-Governance Project Life Cy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Dr. Ashwini Kumar Sharm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M D, NIELI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"/>
              </a:spcBef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DeitY, Go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290520" y="1828800"/>
            <a:ext cx="13120560" cy="61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Assessment of department functions and servic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Services listing and prioritization based on vision and objectives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Identification of projects for achieving the vision and objectives and prioritization of project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ition of expected benefits, outputs and outcom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ition of implementation roadmap and timelin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ition of institutional structures required, including roles and responsibilities for implementation of identified project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Assessment of funding requirements for implementation of strategy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Risk assessment and mitigation measures definition…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464400" indent="-4644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Monitoring &amp; Evaluation framework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0" name="Title 1"/>
          <p:cNvSpPr/>
          <p:nvPr/>
        </p:nvSpPr>
        <p:spPr>
          <a:xfrm>
            <a:off x="266760" y="896760"/>
            <a:ext cx="1314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se 1: Vision &amp; Strategy Development Typically Includ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2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694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79"/>
          <p:cNvGrpSpPr/>
          <p:nvPr/>
        </p:nvGrpSpPr>
        <p:grpSpPr>
          <a:xfrm>
            <a:off x="2112840" y="2544840"/>
            <a:ext cx="2668680" cy="1549440"/>
            <a:chOff x="2112840" y="2544840"/>
            <a:chExt cx="2668680" cy="1549440"/>
          </a:xfrm>
        </p:grpSpPr>
        <p:sp>
          <p:nvSpPr>
            <p:cNvPr id="697" name="Rounded Rectangle 10"/>
            <p:cNvSpPr/>
            <p:nvPr/>
          </p:nvSpPr>
          <p:spPr>
            <a:xfrm>
              <a:off x="2112840" y="2544840"/>
              <a:ext cx="2668680" cy="154944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ounded Rectangle 7"/>
            <p:cNvSpPr/>
            <p:nvPr/>
          </p:nvSpPr>
          <p:spPr>
            <a:xfrm>
              <a:off x="2198520" y="2619360"/>
              <a:ext cx="249732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. Current State Assess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700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703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706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709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1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712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6"/>
          <p:cNvSpPr/>
          <p:nvPr/>
        </p:nvSpPr>
        <p:spPr>
          <a:xfrm>
            <a:off x="1828800" y="1752480"/>
            <a:ext cx="3276720" cy="297180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7"/>
          <p:cNvSpPr/>
          <p:nvPr/>
        </p:nvSpPr>
        <p:spPr>
          <a:xfrm>
            <a:off x="659268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hape 29"/>
          <p:cNvCxnSpPr>
            <a:stCxn id="715" idx="1"/>
            <a:endCxn id="714" idx="0"/>
          </p:cNvCxnSpPr>
          <p:nvPr/>
        </p:nvCxnSpPr>
        <p:spPr>
          <a:xfrm flipV="1" rot="10800000">
            <a:off x="3466440" y="1608480"/>
            <a:ext cx="3123360" cy="14364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228240" y="1599840"/>
            <a:ext cx="1303020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To perform an in-depth assessment of business functions and services identified for coverage under e-Governance project to understand: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approach for performing the business functions and service delivery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key challenges and to identify improvement area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keholder needs and expectation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od practices and learnings from similar implementations in similar domain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ystems (IT) implemented in the department, coverage and gap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−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tion structures and people capacities etc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1379520" indent="-493560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19" name="Title 1"/>
          <p:cNvSpPr/>
          <p:nvPr/>
        </p:nvSpPr>
        <p:spPr>
          <a:xfrm>
            <a:off x="571680" y="68580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21" name="Title 1"/>
          <p:cNvSpPr/>
          <p:nvPr/>
        </p:nvSpPr>
        <p:spPr>
          <a:xfrm>
            <a:off x="57168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(AS-IS)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Content Placeholder 2"/>
          <p:cNvSpPr/>
          <p:nvPr/>
        </p:nvSpPr>
        <p:spPr>
          <a:xfrm>
            <a:off x="457200" y="2031840"/>
            <a:ext cx="1280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88880" indent="-4888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-Is Assessment is carried out along the following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89240" algn="ctr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https://encrypted-tbn3.google.com/images?q=tbn:ANd9GcTCLTJQ7gbUgTr8omJZubq0J-PtK3EVSeC5h1-Y5W3m1BwTI0nK"/>
          <p:cNvPicPr/>
          <p:nvPr/>
        </p:nvPicPr>
        <p:blipFill>
          <a:blip r:embed="rId1"/>
          <a:stretch/>
        </p:blipFill>
        <p:spPr>
          <a:xfrm>
            <a:off x="3733920" y="3375000"/>
            <a:ext cx="5486400" cy="4930920"/>
          </a:xfrm>
          <a:prstGeom prst="rect">
            <a:avLst/>
          </a:prstGeom>
          <a:ln w="0">
            <a:noFill/>
          </a:ln>
        </p:spPr>
      </p:pic>
      <p:sp>
        <p:nvSpPr>
          <p:cNvPr id="724" name="TextBox 7"/>
          <p:cNvSpPr/>
          <p:nvPr/>
        </p:nvSpPr>
        <p:spPr>
          <a:xfrm>
            <a:off x="5724000" y="281952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9"/>
          <p:cNvSpPr/>
          <p:nvPr/>
        </p:nvSpPr>
        <p:spPr>
          <a:xfrm>
            <a:off x="9048960" y="7238880"/>
            <a:ext cx="30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0"/>
          <p:cNvSpPr/>
          <p:nvPr/>
        </p:nvSpPr>
        <p:spPr>
          <a:xfrm>
            <a:off x="1764000" y="72388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28" name="Title 1"/>
          <p:cNvSpPr/>
          <p:nvPr/>
        </p:nvSpPr>
        <p:spPr>
          <a:xfrm>
            <a:off x="685800" y="896760"/>
            <a:ext cx="12458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(AS-IS)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Content Placeholder 2"/>
          <p:cNvSpPr/>
          <p:nvPr/>
        </p:nvSpPr>
        <p:spPr>
          <a:xfrm>
            <a:off x="457200" y="2031840"/>
            <a:ext cx="1280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88880" indent="-4888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-Is Assessment is carried out along the following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89240" algn="ctr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Diagram 6" descr=""/>
          <p:cNvPicPr/>
          <p:nvPr/>
        </p:nvPicPr>
        <p:blipFill>
          <a:blip r:embed="rId1"/>
          <a:stretch/>
        </p:blipFill>
        <p:spPr>
          <a:xfrm>
            <a:off x="2511360" y="2882880"/>
            <a:ext cx="83948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32" name="Title 1"/>
          <p:cNvSpPr/>
          <p:nvPr/>
        </p:nvSpPr>
        <p:spPr>
          <a:xfrm>
            <a:off x="647640" y="896760"/>
            <a:ext cx="12458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2: CURRENT STATE ASSESS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itle 1"/>
          <p:cNvSpPr/>
          <p:nvPr/>
        </p:nvSpPr>
        <p:spPr>
          <a:xfrm>
            <a:off x="495360" y="162576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3a4972"/>
                </a:solidFill>
                <a:latin typeface="Arial"/>
              </a:rPr>
              <a:t>KEY OUTPUTS/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8"/>
          <p:cNvGrpSpPr/>
          <p:nvPr/>
        </p:nvGrpSpPr>
        <p:grpSpPr>
          <a:xfrm>
            <a:off x="1219320" y="3556080"/>
            <a:ext cx="3733560" cy="3454200"/>
            <a:chOff x="1219320" y="3556080"/>
            <a:chExt cx="3733560" cy="3454200"/>
          </a:xfrm>
        </p:grpSpPr>
        <p:sp>
          <p:nvSpPr>
            <p:cNvPr id="735" name="Rectangle 24"/>
            <p:cNvSpPr/>
            <p:nvPr/>
          </p:nvSpPr>
          <p:spPr>
            <a:xfrm>
              <a:off x="1219320" y="3556080"/>
              <a:ext cx="3733560" cy="34542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"/>
            <p:cNvSpPr/>
            <p:nvPr/>
          </p:nvSpPr>
          <p:spPr>
            <a:xfrm>
              <a:off x="1479600" y="3556080"/>
              <a:ext cx="347328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 m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in poi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itial improvement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keholder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9"/>
          <p:cNvGrpSpPr/>
          <p:nvPr/>
        </p:nvGrpSpPr>
        <p:grpSpPr>
          <a:xfrm>
            <a:off x="114480" y="2946240"/>
            <a:ext cx="1769760" cy="1524240"/>
            <a:chOff x="114480" y="2946240"/>
            <a:chExt cx="1769760" cy="1524240"/>
          </a:xfrm>
        </p:grpSpPr>
        <p:sp>
          <p:nvSpPr>
            <p:cNvPr id="738" name="Oval 22"/>
            <p:cNvSpPr/>
            <p:nvPr/>
          </p:nvSpPr>
          <p:spPr>
            <a:xfrm>
              <a:off x="114480" y="2946240"/>
              <a:ext cx="1769760" cy="152424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6"/>
            <p:cNvSpPr/>
            <p:nvPr/>
          </p:nvSpPr>
          <p:spPr>
            <a:xfrm>
              <a:off x="114480" y="3170160"/>
              <a:ext cx="168408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-Is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10"/>
          <p:cNvGrpSpPr/>
          <p:nvPr/>
        </p:nvGrpSpPr>
        <p:grpSpPr>
          <a:xfrm>
            <a:off x="5952960" y="3556080"/>
            <a:ext cx="3419640" cy="3454200"/>
            <a:chOff x="5952960" y="3556080"/>
            <a:chExt cx="3419640" cy="3454200"/>
          </a:xfrm>
        </p:grpSpPr>
        <p:sp>
          <p:nvSpPr>
            <p:cNvPr id="741" name="Rectangle 20"/>
            <p:cNvSpPr/>
            <p:nvPr/>
          </p:nvSpPr>
          <p:spPr>
            <a:xfrm>
              <a:off x="5952960" y="3556080"/>
              <a:ext cx="3419640" cy="34542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1"/>
            <p:cNvSpPr/>
            <p:nvPr/>
          </p:nvSpPr>
          <p:spPr>
            <a:xfrm>
              <a:off x="6116400" y="3556080"/>
              <a:ext cx="325620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ope and functiona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engths and g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Infrastructure (network, security, data center)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11"/>
          <p:cNvGrpSpPr/>
          <p:nvPr/>
        </p:nvGrpSpPr>
        <p:grpSpPr>
          <a:xfrm>
            <a:off x="4267080" y="2590920"/>
            <a:ext cx="2286000" cy="1879560"/>
            <a:chOff x="4267080" y="2590920"/>
            <a:chExt cx="2286000" cy="1879560"/>
          </a:xfrm>
        </p:grpSpPr>
        <p:sp>
          <p:nvSpPr>
            <p:cNvPr id="744" name="Oval 18"/>
            <p:cNvSpPr/>
            <p:nvPr/>
          </p:nvSpPr>
          <p:spPr>
            <a:xfrm>
              <a:off x="4536720" y="2946240"/>
              <a:ext cx="1770120" cy="152424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4267080" y="2590920"/>
              <a:ext cx="2286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-Is IT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12"/>
          <p:cNvGrpSpPr/>
          <p:nvPr/>
        </p:nvGrpSpPr>
        <p:grpSpPr>
          <a:xfrm>
            <a:off x="9997920" y="3809880"/>
            <a:ext cx="3641760" cy="3505320"/>
            <a:chOff x="9997920" y="3809880"/>
            <a:chExt cx="3641760" cy="3505320"/>
          </a:xfrm>
        </p:grpSpPr>
        <p:sp>
          <p:nvSpPr>
            <p:cNvPr id="747" name="Rectangle 16"/>
            <p:cNvSpPr/>
            <p:nvPr/>
          </p:nvSpPr>
          <p:spPr>
            <a:xfrm>
              <a:off x="9997920" y="3860640"/>
              <a:ext cx="3413160" cy="345456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7"/>
            <p:cNvSpPr/>
            <p:nvPr/>
          </p:nvSpPr>
          <p:spPr>
            <a:xfrm>
              <a:off x="10536120" y="3809880"/>
              <a:ext cx="3103560" cy="34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ganizational struc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les and respon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pacities and skill s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barriers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3"/>
          <p:cNvGrpSpPr/>
          <p:nvPr/>
        </p:nvGrpSpPr>
        <p:grpSpPr>
          <a:xfrm>
            <a:off x="8534520" y="2514600"/>
            <a:ext cx="2514600" cy="1955880"/>
            <a:chOff x="8534520" y="2514600"/>
            <a:chExt cx="2514600" cy="1955880"/>
          </a:xfrm>
        </p:grpSpPr>
        <p:sp>
          <p:nvSpPr>
            <p:cNvPr id="750" name="Oval 14"/>
            <p:cNvSpPr/>
            <p:nvPr/>
          </p:nvSpPr>
          <p:spPr>
            <a:xfrm>
              <a:off x="8566200" y="2514600"/>
              <a:ext cx="2482920" cy="195588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8534520" y="2843280"/>
              <a:ext cx="2503800" cy="14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s-Is People Environ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53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755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758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761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764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767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770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2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773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6"/>
          <p:cNvSpPr/>
          <p:nvPr/>
        </p:nvSpPr>
        <p:spPr>
          <a:xfrm>
            <a:off x="4343400" y="2133720"/>
            <a:ext cx="2629080" cy="23367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7"/>
          <p:cNvSpPr/>
          <p:nvPr/>
        </p:nvSpPr>
        <p:spPr>
          <a:xfrm>
            <a:off x="880416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Shape 29"/>
          <p:cNvCxnSpPr>
            <a:stCxn id="776" idx="1"/>
            <a:endCxn id="775" idx="0"/>
          </p:cNvCxnSpPr>
          <p:nvPr/>
        </p:nvCxnSpPr>
        <p:spPr>
          <a:xfrm flipV="1" rot="10800000">
            <a:off x="5657040" y="1609200"/>
            <a:ext cx="3144240" cy="52488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723960" y="2184480"/>
            <a:ext cx="122299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how the identified business functions and services shall be performed going forward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the new business processes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IT solutions and services for automation of new business processes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marL="503280" indent="-503280"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people change management, capacity building and communication requirements for project implementation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80" name="Title 1"/>
          <p:cNvSpPr/>
          <p:nvPr/>
        </p:nvSpPr>
        <p:spPr>
          <a:xfrm>
            <a:off x="57168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3: DEFINE FUTURE STATE (TO-BE DEFINITION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82" name="Content Placeholder 2"/>
          <p:cNvSpPr/>
          <p:nvPr/>
        </p:nvSpPr>
        <p:spPr>
          <a:xfrm>
            <a:off x="228600" y="2031840"/>
            <a:ext cx="1280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88880" indent="-488880" algn="ctr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</a:rPr>
              <a:t>To-be definition is performed along the following dimension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489240" algn="ctr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70c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57168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PHASE 3: DEFINE FUTURE STATE (TO-BE DEFINITIO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Diagram 7" descr=""/>
          <p:cNvPicPr/>
          <p:nvPr/>
        </p:nvPicPr>
        <p:blipFill>
          <a:blip r:embed="rId1"/>
          <a:stretch/>
        </p:blipFill>
        <p:spPr>
          <a:xfrm>
            <a:off x="2511360" y="2882880"/>
            <a:ext cx="83948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86" name="Title 1"/>
          <p:cNvSpPr/>
          <p:nvPr/>
        </p:nvSpPr>
        <p:spPr>
          <a:xfrm>
            <a:off x="571680" y="152388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KEY OUTPUTS/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8"/>
          <p:cNvGrpSpPr/>
          <p:nvPr/>
        </p:nvGrpSpPr>
        <p:grpSpPr>
          <a:xfrm>
            <a:off x="1758960" y="3556080"/>
            <a:ext cx="2652840" cy="3454200"/>
            <a:chOff x="1758960" y="3556080"/>
            <a:chExt cx="2652840" cy="3454200"/>
          </a:xfrm>
        </p:grpSpPr>
        <p:sp>
          <p:nvSpPr>
            <p:cNvPr id="788" name="Rectangle 24"/>
            <p:cNvSpPr/>
            <p:nvPr/>
          </p:nvSpPr>
          <p:spPr>
            <a:xfrm>
              <a:off x="1758960" y="3556080"/>
              <a:ext cx="2652840" cy="34542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5"/>
            <p:cNvSpPr/>
            <p:nvPr/>
          </p:nvSpPr>
          <p:spPr>
            <a:xfrm>
              <a:off x="1942920" y="3556080"/>
              <a:ext cx="2468880" cy="34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-be business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process KPIs/metr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s to the legal and policy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9"/>
          <p:cNvGrpSpPr/>
          <p:nvPr/>
        </p:nvGrpSpPr>
        <p:grpSpPr>
          <a:xfrm>
            <a:off x="343080" y="2946240"/>
            <a:ext cx="1769760" cy="1524240"/>
            <a:chOff x="343080" y="2946240"/>
            <a:chExt cx="1769760" cy="1524240"/>
          </a:xfrm>
        </p:grpSpPr>
        <p:sp>
          <p:nvSpPr>
            <p:cNvPr id="791" name="Oval 22"/>
            <p:cNvSpPr/>
            <p:nvPr/>
          </p:nvSpPr>
          <p:spPr>
            <a:xfrm>
              <a:off x="343080" y="2946240"/>
              <a:ext cx="1769760" cy="152424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6"/>
            <p:cNvSpPr/>
            <p:nvPr/>
          </p:nvSpPr>
          <p:spPr>
            <a:xfrm>
              <a:off x="343080" y="3170160"/>
              <a:ext cx="168408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-be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5105520" y="3581280"/>
            <a:ext cx="4343400" cy="4775400"/>
            <a:chOff x="5105520" y="3581280"/>
            <a:chExt cx="4343400" cy="4775400"/>
          </a:xfrm>
        </p:grpSpPr>
        <p:sp>
          <p:nvSpPr>
            <p:cNvPr id="794" name="Rectangle 20"/>
            <p:cNvSpPr/>
            <p:nvPr/>
          </p:nvSpPr>
          <p:spPr>
            <a:xfrm>
              <a:off x="5105520" y="3581280"/>
              <a:ext cx="4259520" cy="45468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1"/>
            <p:cNvSpPr/>
            <p:nvPr/>
          </p:nvSpPr>
          <p:spPr>
            <a:xfrm>
              <a:off x="5315040" y="4198680"/>
              <a:ext cx="4133880" cy="41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unctional Architecture and Requirements specif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erprise Architecture covering Application, data, network, security, data center archite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 digitization and migration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L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0120" indent="-33012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"/>
          <p:cNvGrpSpPr/>
          <p:nvPr/>
        </p:nvGrpSpPr>
        <p:grpSpPr>
          <a:xfrm>
            <a:off x="4343400" y="2514600"/>
            <a:ext cx="2171880" cy="1727280"/>
            <a:chOff x="4343400" y="2514600"/>
            <a:chExt cx="2171880" cy="1727280"/>
          </a:xfrm>
        </p:grpSpPr>
        <p:sp>
          <p:nvSpPr>
            <p:cNvPr id="797" name="Oval 18"/>
            <p:cNvSpPr/>
            <p:nvPr/>
          </p:nvSpPr>
          <p:spPr>
            <a:xfrm>
              <a:off x="4437000" y="2514600"/>
              <a:ext cx="2078280" cy="172728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4343400" y="2712960"/>
              <a:ext cx="214812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-be IT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2"/>
          <p:cNvGrpSpPr/>
          <p:nvPr/>
        </p:nvGrpSpPr>
        <p:grpSpPr>
          <a:xfrm>
            <a:off x="9753480" y="3352680"/>
            <a:ext cx="3810240" cy="4749840"/>
            <a:chOff x="9753480" y="3352680"/>
            <a:chExt cx="3810240" cy="4749840"/>
          </a:xfrm>
        </p:grpSpPr>
        <p:sp>
          <p:nvSpPr>
            <p:cNvPr id="800" name="Rectangle 16"/>
            <p:cNvSpPr/>
            <p:nvPr/>
          </p:nvSpPr>
          <p:spPr>
            <a:xfrm>
              <a:off x="9753480" y="3352680"/>
              <a:ext cx="3810240" cy="4532400"/>
            </a:xfrm>
            <a:prstGeom prst="rect">
              <a:avLst/>
            </a:prstGeom>
            <a:solidFill>
              <a:srgbClr val="cdd3e1">
                <a:alpha val="90000"/>
              </a:srgbClr>
            </a:solidFill>
            <a:ln w="25560">
              <a:solidFill>
                <a:srgbClr val="cdd3e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9880200" y="4224240"/>
              <a:ext cx="3556440" cy="38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9680" tIns="49680" bIns="49680" anchor="ctr">
              <a:noAutofit/>
            </a:bodyPr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stitutional structures needed for project implem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aining and Capacity building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Management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07880" indent="-407880">
                <a:lnSpc>
                  <a:spcPct val="90000"/>
                </a:lnSpc>
                <a:spcAft>
                  <a:spcPts val="10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munications Management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3"/>
          <p:cNvGrpSpPr/>
          <p:nvPr/>
        </p:nvGrpSpPr>
        <p:grpSpPr>
          <a:xfrm>
            <a:off x="9166320" y="2438280"/>
            <a:ext cx="2415960" cy="1727280"/>
            <a:chOff x="9166320" y="2438280"/>
            <a:chExt cx="2415960" cy="1727280"/>
          </a:xfrm>
        </p:grpSpPr>
        <p:sp>
          <p:nvSpPr>
            <p:cNvPr id="803" name="Oval 14"/>
            <p:cNvSpPr/>
            <p:nvPr/>
          </p:nvSpPr>
          <p:spPr>
            <a:xfrm>
              <a:off x="9196200" y="2438280"/>
              <a:ext cx="2386080" cy="1727280"/>
            </a:xfrm>
            <a:prstGeom prst="ellipse">
              <a:avLst/>
            </a:prstGeom>
            <a:solidFill>
              <a:srgbClr val="266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9166320" y="2728800"/>
              <a:ext cx="24066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506520"/>
                  <a:tab algn="l" pos="1012680"/>
                  <a:tab algn="l" pos="1519200"/>
                  <a:tab algn="l" pos="2025720"/>
                  <a:tab algn="l" pos="2532240"/>
                  <a:tab algn="l" pos="3038400"/>
                  <a:tab algn="l" pos="3544920"/>
                  <a:tab algn="l" pos="4051440"/>
                  <a:tab algn="l" pos="4557600"/>
                  <a:tab algn="l" pos="5064120"/>
                  <a:tab algn="l" pos="5570640"/>
                  <a:tab algn="l" pos="6076800"/>
                  <a:tab algn="l" pos="6583320"/>
                  <a:tab algn="l" pos="7089840"/>
                  <a:tab algn="l" pos="7596360"/>
                  <a:tab algn="l" pos="8102520"/>
                  <a:tab algn="l" pos="8609040"/>
                  <a:tab algn="l" pos="9115560"/>
                  <a:tab algn="l" pos="9621720"/>
                  <a:tab algn="l" pos="101282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-be People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Title 1"/>
          <p:cNvSpPr/>
          <p:nvPr/>
        </p:nvSpPr>
        <p:spPr>
          <a:xfrm>
            <a:off x="647640" y="762120"/>
            <a:ext cx="124588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3: DEFINE FUTURE STATE (TO-BE DEFINITION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52760" y="163080"/>
            <a:ext cx="10423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 &amp; e-Government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504960" y="966960"/>
            <a:ext cx="9923400" cy="67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IN" sz="29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: An organization that has the power to make and enforce laws for a certain territory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Governmen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lvl="1" marL="227160" indent="-227160" algn="just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hort for electronic government, also known as e-gov, digital government, online government, or connected government.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227160" indent="-227160" algn="just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Is a digital interaction between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502920" indent="-273960" algn="just">
              <a:spcBef>
                <a:spcPts val="1426"/>
              </a:spcBef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Government and citizens (G2C)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502920" indent="-273960" algn="just">
              <a:spcBef>
                <a:spcPts val="1426"/>
              </a:spcBef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Government and  businesses/ e-Commerce (G2B)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2" marL="502920" indent="-273960" algn="just">
              <a:spcBef>
                <a:spcPts val="1426"/>
              </a:spcBef>
              <a:buClr>
                <a:srgbClr val="000000"/>
              </a:buClr>
              <a:buFont typeface="Arial"/>
              <a:buChar char="−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Between government agencies (G2G)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1" marL="227160" indent="-227160" algn="just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Digital interaction consists of governance, information and communication technology (ICT), business process re-engineering (BPR), and e-citizen at all levels of government (city, state, national, and international).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pic>
        <p:nvPicPr>
          <p:cNvPr id="598" name="Picture 3" descr="Indian-National-Flag-1024x768.jpg"/>
          <p:cNvPicPr/>
          <p:nvPr/>
        </p:nvPicPr>
        <p:blipFill>
          <a:blip r:embed="rId1"/>
          <a:stretch/>
        </p:blipFill>
        <p:spPr>
          <a:xfrm>
            <a:off x="160200" y="1219320"/>
            <a:ext cx="3573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07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809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812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815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81"/>
          <p:cNvGrpSpPr/>
          <p:nvPr/>
        </p:nvGrpSpPr>
        <p:grpSpPr>
          <a:xfrm>
            <a:off x="6656400" y="2664000"/>
            <a:ext cx="2603520" cy="1298520"/>
            <a:chOff x="6656400" y="2664000"/>
            <a:chExt cx="2603520" cy="1298520"/>
          </a:xfrm>
        </p:grpSpPr>
        <p:sp>
          <p:nvSpPr>
            <p:cNvPr id="818" name="Rounded Rectangle 16"/>
            <p:cNvSpPr/>
            <p:nvPr/>
          </p:nvSpPr>
          <p:spPr>
            <a:xfrm>
              <a:off x="6656400" y="2664000"/>
              <a:ext cx="2603520" cy="12985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ounded Rectangle 11"/>
            <p:cNvSpPr/>
            <p:nvPr/>
          </p:nvSpPr>
          <p:spPr>
            <a:xfrm>
              <a:off x="6740280" y="2727360"/>
              <a:ext cx="2435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821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824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6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827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6"/>
          <p:cNvSpPr/>
          <p:nvPr/>
        </p:nvSpPr>
        <p:spPr>
          <a:xfrm>
            <a:off x="6324480" y="1981080"/>
            <a:ext cx="3200400" cy="248940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7"/>
          <p:cNvSpPr/>
          <p:nvPr/>
        </p:nvSpPr>
        <p:spPr>
          <a:xfrm>
            <a:off x="1103112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hape 29"/>
          <p:cNvCxnSpPr>
            <a:stCxn id="830" idx="1"/>
            <a:endCxn id="829" idx="0"/>
          </p:cNvCxnSpPr>
          <p:nvPr/>
        </p:nvCxnSpPr>
        <p:spPr>
          <a:xfrm flipV="1" rot="10800000">
            <a:off x="7923960" y="1609200"/>
            <a:ext cx="3104280" cy="37224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reeform 9"/>
          <p:cNvSpPr/>
          <p:nvPr/>
        </p:nvSpPr>
        <p:spPr>
          <a:xfrm>
            <a:off x="152280" y="2760840"/>
            <a:ext cx="367848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mplementation Approach and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"/>
          <p:cNvSpPr/>
          <p:nvPr/>
        </p:nvSpPr>
        <p:spPr>
          <a:xfrm>
            <a:off x="3473280" y="2760840"/>
            <a:ext cx="357372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siness Model Defi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1"/>
          <p:cNvSpPr/>
          <p:nvPr/>
        </p:nvSpPr>
        <p:spPr>
          <a:xfrm>
            <a:off x="6689880" y="2760840"/>
            <a:ext cx="357480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FP and Contract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2"/>
          <p:cNvSpPr/>
          <p:nvPr/>
        </p:nvSpPr>
        <p:spPr>
          <a:xfrm>
            <a:off x="9907560" y="2760840"/>
            <a:ext cx="3573360" cy="1430280"/>
          </a:xfrm>
          <a:prstGeom prst="pie">
            <a:avLst/>
          </a:prstGeom>
          <a:solidFill>
            <a:srgbClr val="266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760" rIns="74556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ndor Evaluation and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37" name="Title 1"/>
          <p:cNvSpPr/>
          <p:nvPr/>
        </p:nvSpPr>
        <p:spPr>
          <a:xfrm>
            <a:off x="290520" y="162576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Arial"/>
              </a:rPr>
              <a:t>KEY ACTIVITIES/OUT PUTS/DELIVERAB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itle 1"/>
          <p:cNvSpPr/>
          <p:nvPr/>
        </p:nvSpPr>
        <p:spPr>
          <a:xfrm>
            <a:off x="290520" y="762120"/>
            <a:ext cx="130446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SE 4: IMPLEMENTATION APPROACH AND SOU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304920" y="4479840"/>
            <a:ext cx="308592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pproach and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tim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key stakeholders and their 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(M &amp; E)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4"/>
          <p:cNvSpPr/>
          <p:nvPr/>
        </p:nvSpPr>
        <p:spPr>
          <a:xfrm>
            <a:off x="3543480" y="4479840"/>
            <a:ext cx="30859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investments and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/implement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yment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5"/>
          <p:cNvSpPr/>
          <p:nvPr/>
        </p:nvSpPr>
        <p:spPr>
          <a:xfrm>
            <a:off x="6781680" y="4479840"/>
            <a:ext cx="308628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uremen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for Proposals (R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 Documents/Agre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10020240" y="4479840"/>
            <a:ext cx="308628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-bid minutes and cla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or evaluation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or (s)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48888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ed contrac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44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846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849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852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855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82"/>
          <p:cNvGrpSpPr/>
          <p:nvPr/>
        </p:nvGrpSpPr>
        <p:grpSpPr>
          <a:xfrm>
            <a:off x="9101160" y="2438280"/>
            <a:ext cx="2328840" cy="1524240"/>
            <a:chOff x="9101160" y="2438280"/>
            <a:chExt cx="2328840" cy="1524240"/>
          </a:xfrm>
        </p:grpSpPr>
        <p:sp>
          <p:nvSpPr>
            <p:cNvPr id="858" name="Rounded Rectangle 19"/>
            <p:cNvSpPr/>
            <p:nvPr/>
          </p:nvSpPr>
          <p:spPr>
            <a:xfrm>
              <a:off x="9101160" y="2438280"/>
              <a:ext cx="2328840" cy="152424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ounded Rectangle 13"/>
            <p:cNvSpPr/>
            <p:nvPr/>
          </p:nvSpPr>
          <p:spPr>
            <a:xfrm>
              <a:off x="9175680" y="2512800"/>
              <a:ext cx="2179800" cy="13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861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3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864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6"/>
          <p:cNvSpPr/>
          <p:nvPr/>
        </p:nvSpPr>
        <p:spPr>
          <a:xfrm>
            <a:off x="8896320" y="1549440"/>
            <a:ext cx="2860560" cy="292104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7"/>
          <p:cNvSpPr/>
          <p:nvPr/>
        </p:nvSpPr>
        <p:spPr>
          <a:xfrm>
            <a:off x="6060960" y="129528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8" name="Shape 29"/>
          <p:cNvCxnSpPr>
            <a:stCxn id="867" idx="3"/>
            <a:endCxn id="866" idx="0"/>
          </p:cNvCxnSpPr>
          <p:nvPr/>
        </p:nvCxnSpPr>
        <p:spPr>
          <a:xfrm flipV="1">
            <a:off x="6777000" y="1548720"/>
            <a:ext cx="3550320" cy="35640"/>
          </a:xfrm>
          <a:prstGeom prst="bentConnector4">
            <a:avLst>
              <a:gd name="adj1" fmla="val 29854"/>
              <a:gd name="adj2" fmla="val 1478571"/>
            </a:avLst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70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HASE 5: DEVELOP AND IMPLEMENT  IT SYST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Right Arrow 8"/>
          <p:cNvGrpSpPr/>
          <p:nvPr/>
        </p:nvGrpSpPr>
        <p:grpSpPr>
          <a:xfrm>
            <a:off x="749160" y="1719360"/>
            <a:ext cx="13022280" cy="3382920"/>
            <a:chOff x="749160" y="1719360"/>
            <a:chExt cx="13022280" cy="3382920"/>
          </a:xfrm>
        </p:grpSpPr>
        <p:pic>
          <p:nvPicPr>
            <p:cNvPr id="872" name="Right Arrow 8" descr=""/>
            <p:cNvPicPr/>
            <p:nvPr/>
          </p:nvPicPr>
          <p:blipFill>
            <a:blip r:embed="rId1"/>
            <a:stretch/>
          </p:blipFill>
          <p:spPr>
            <a:xfrm>
              <a:off x="749160" y="1719360"/>
              <a:ext cx="1302228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812880" y="2552760"/>
              <a:ext cx="12053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16"/>
          <p:cNvGrpSpPr/>
          <p:nvPr/>
        </p:nvGrpSpPr>
        <p:grpSpPr>
          <a:xfrm>
            <a:off x="1193760" y="2835360"/>
            <a:ext cx="1832040" cy="1122120"/>
            <a:chOff x="1193760" y="2835360"/>
            <a:chExt cx="1832040" cy="1122120"/>
          </a:xfrm>
        </p:grpSpPr>
        <p:grpSp>
          <p:nvGrpSpPr>
            <p:cNvPr id="875" name="Rounded Rectangle 24"/>
            <p:cNvGrpSpPr/>
            <p:nvPr/>
          </p:nvGrpSpPr>
          <p:grpSpPr>
            <a:xfrm>
              <a:off x="1215360" y="2835360"/>
              <a:ext cx="1749960" cy="1122120"/>
              <a:chOff x="1215360" y="2835360"/>
              <a:chExt cx="1749960" cy="1122120"/>
            </a:xfrm>
          </p:grpSpPr>
          <p:pic>
            <p:nvPicPr>
              <p:cNvPr id="876" name="Rounded Rectangl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5360" y="2835360"/>
                <a:ext cx="17499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1318320" y="2918880"/>
                <a:ext cx="155016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Rounded Rectangle 5"/>
            <p:cNvGrpSpPr/>
            <p:nvPr/>
          </p:nvGrpSpPr>
          <p:grpSpPr>
            <a:xfrm>
              <a:off x="1193760" y="2885040"/>
              <a:ext cx="1832040" cy="1022400"/>
              <a:chOff x="1193760" y="2885040"/>
              <a:chExt cx="1832040" cy="1022400"/>
            </a:xfrm>
          </p:grpSpPr>
          <p:pic>
            <p:nvPicPr>
              <p:cNvPr id="879" name="Rounded 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2885040"/>
                <a:ext cx="183204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1344960" y="2919600"/>
                <a:ext cx="1497240" cy="92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760" rIns="41760" tIns="41760" bIns="41760" anchor="ctr">
                <a:noAutofit/>
              </a:bodyPr>
              <a:p>
                <a:pPr algn="ctr"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quirement Spec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1" name="Group 17"/>
          <p:cNvGrpSpPr/>
          <p:nvPr/>
        </p:nvGrpSpPr>
        <p:grpSpPr>
          <a:xfrm>
            <a:off x="9558360" y="2836800"/>
            <a:ext cx="2138400" cy="1123920"/>
            <a:chOff x="9558360" y="2836800"/>
            <a:chExt cx="2138400" cy="1123920"/>
          </a:xfrm>
        </p:grpSpPr>
        <p:grpSp>
          <p:nvGrpSpPr>
            <p:cNvPr id="882" name="Rounded Rectangle 29"/>
            <p:cNvGrpSpPr/>
            <p:nvPr/>
          </p:nvGrpSpPr>
          <p:grpSpPr>
            <a:xfrm>
              <a:off x="9558360" y="2836800"/>
              <a:ext cx="2138400" cy="1123920"/>
              <a:chOff x="9558360" y="2836800"/>
              <a:chExt cx="2138400" cy="1123920"/>
            </a:xfrm>
          </p:grpSpPr>
          <p:pic>
            <p:nvPicPr>
              <p:cNvPr id="883" name="Rounded Rectangle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9558360" y="2836800"/>
                <a:ext cx="213840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>
                <a:off x="9667800" y="2921760"/>
                <a:ext cx="1923480" cy="9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Rounded Rectangle 13"/>
            <p:cNvSpPr/>
            <p:nvPr/>
          </p:nvSpPr>
          <p:spPr>
            <a:xfrm>
              <a:off x="9678960" y="2934000"/>
              <a:ext cx="1868040" cy="9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18"/>
          <p:cNvGrpSpPr/>
          <p:nvPr/>
        </p:nvGrpSpPr>
        <p:grpSpPr>
          <a:xfrm>
            <a:off x="7359480" y="2835360"/>
            <a:ext cx="2014560" cy="1122120"/>
            <a:chOff x="7359480" y="2835360"/>
            <a:chExt cx="2014560" cy="1122120"/>
          </a:xfrm>
        </p:grpSpPr>
        <p:grpSp>
          <p:nvGrpSpPr>
            <p:cNvPr id="887" name="Rounded Rectangle 28"/>
            <p:cNvGrpSpPr/>
            <p:nvPr/>
          </p:nvGrpSpPr>
          <p:grpSpPr>
            <a:xfrm>
              <a:off x="7359480" y="2835360"/>
              <a:ext cx="2014560" cy="1122120"/>
              <a:chOff x="7359480" y="2835360"/>
              <a:chExt cx="2014560" cy="1122120"/>
            </a:xfrm>
          </p:grpSpPr>
          <p:pic>
            <p:nvPicPr>
              <p:cNvPr id="888" name="Rounded Rectangl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7359480" y="2835360"/>
                <a:ext cx="20145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>
                <a:off x="7470360" y="2918880"/>
                <a:ext cx="179892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Rounded Rectangle 11"/>
            <p:cNvSpPr/>
            <p:nvPr/>
          </p:nvSpPr>
          <p:spPr>
            <a:xfrm>
              <a:off x="7511400" y="2934360"/>
              <a:ext cx="15544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19"/>
          <p:cNvGrpSpPr/>
          <p:nvPr/>
        </p:nvGrpSpPr>
        <p:grpSpPr>
          <a:xfrm>
            <a:off x="5249880" y="2835360"/>
            <a:ext cx="1989000" cy="1122120"/>
            <a:chOff x="5249880" y="2835360"/>
            <a:chExt cx="1989000" cy="1122120"/>
          </a:xfrm>
        </p:grpSpPr>
        <p:grpSp>
          <p:nvGrpSpPr>
            <p:cNvPr id="892" name="Rounded Rectangle 27"/>
            <p:cNvGrpSpPr/>
            <p:nvPr/>
          </p:nvGrpSpPr>
          <p:grpSpPr>
            <a:xfrm>
              <a:off x="5291280" y="2835360"/>
              <a:ext cx="1926360" cy="1122120"/>
              <a:chOff x="5291280" y="2835360"/>
              <a:chExt cx="1926360" cy="1122120"/>
            </a:xfrm>
          </p:grpSpPr>
          <p:pic>
            <p:nvPicPr>
              <p:cNvPr id="893" name="Rounded Rectangl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1280" y="2835360"/>
                <a:ext cx="19263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>
                <a:off x="5409000" y="2918880"/>
                <a:ext cx="169956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Rounded Rectangle 9"/>
            <p:cNvSpPr/>
            <p:nvPr/>
          </p:nvSpPr>
          <p:spPr>
            <a:xfrm>
              <a:off x="5249880" y="2919600"/>
              <a:ext cx="1989000" cy="92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struction (development or codin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1"/>
          <p:cNvGrpSpPr/>
          <p:nvPr/>
        </p:nvGrpSpPr>
        <p:grpSpPr>
          <a:xfrm>
            <a:off x="3260880" y="2835360"/>
            <a:ext cx="1887480" cy="1122120"/>
            <a:chOff x="3260880" y="2835360"/>
            <a:chExt cx="1887480" cy="1122120"/>
          </a:xfrm>
        </p:grpSpPr>
        <p:grpSp>
          <p:nvGrpSpPr>
            <p:cNvPr id="897" name="Rounded Rectangle 26"/>
            <p:cNvGrpSpPr/>
            <p:nvPr/>
          </p:nvGrpSpPr>
          <p:grpSpPr>
            <a:xfrm>
              <a:off x="3260880" y="2835360"/>
              <a:ext cx="1887480" cy="1122120"/>
              <a:chOff x="3260880" y="2835360"/>
              <a:chExt cx="1887480" cy="1122120"/>
            </a:xfrm>
          </p:grpSpPr>
          <p:pic>
            <p:nvPicPr>
              <p:cNvPr id="898" name="Rounded Rectangl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260880" y="2835360"/>
                <a:ext cx="188748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3368880" y="2918880"/>
                <a:ext cx="1673280" cy="9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Rounded Rectangle 7"/>
            <p:cNvSpPr/>
            <p:nvPr/>
          </p:nvSpPr>
          <p:spPr>
            <a:xfrm>
              <a:off x="3414600" y="2869200"/>
              <a:ext cx="1576440" cy="95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 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Box 35"/>
          <p:cNvSpPr/>
          <p:nvPr/>
        </p:nvSpPr>
        <p:spPr>
          <a:xfrm>
            <a:off x="2387160" y="7873920"/>
            <a:ext cx="82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DEVELOPMENT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2"/>
          <p:cNvSpPr/>
          <p:nvPr/>
        </p:nvSpPr>
        <p:spPr>
          <a:xfrm>
            <a:off x="3276720" y="4579920"/>
            <a:ext cx="6019560" cy="261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stem design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ftware quality assurance, acceptance testing and 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ining and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nge management and project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7"/>
          <p:cNvSpPr/>
          <p:nvPr/>
        </p:nvSpPr>
        <p:spPr>
          <a:xfrm>
            <a:off x="1143000" y="4579920"/>
            <a:ext cx="18288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tion of detailed functional and techni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8"/>
          <p:cNvSpPr/>
          <p:nvPr/>
        </p:nvSpPr>
        <p:spPr>
          <a:xfrm>
            <a:off x="9601200" y="4579920"/>
            <a:ext cx="2057400" cy="122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ject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buClr>
                <a:srgbClr val="ff0000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ject go-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Down Arrow 50"/>
          <p:cNvSpPr/>
          <p:nvPr/>
        </p:nvSpPr>
        <p:spPr>
          <a:xfrm>
            <a:off x="1051560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Down Arrow 51"/>
          <p:cNvSpPr/>
          <p:nvPr/>
        </p:nvSpPr>
        <p:spPr>
          <a:xfrm>
            <a:off x="815328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Down Arrow 52"/>
          <p:cNvSpPr/>
          <p:nvPr/>
        </p:nvSpPr>
        <p:spPr>
          <a:xfrm>
            <a:off x="624852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Down Arrow 53"/>
          <p:cNvSpPr/>
          <p:nvPr/>
        </p:nvSpPr>
        <p:spPr>
          <a:xfrm>
            <a:off x="426708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Down Arrow 54"/>
          <p:cNvSpPr/>
          <p:nvPr/>
        </p:nvSpPr>
        <p:spPr>
          <a:xfrm>
            <a:off x="1905120" y="3886200"/>
            <a:ext cx="2286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11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913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916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919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922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925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928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0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931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26"/>
          <p:cNvSpPr/>
          <p:nvPr/>
        </p:nvSpPr>
        <p:spPr>
          <a:xfrm>
            <a:off x="11087280" y="2133720"/>
            <a:ext cx="2628720" cy="23367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7"/>
          <p:cNvSpPr/>
          <p:nvPr/>
        </p:nvSpPr>
        <p:spPr>
          <a:xfrm>
            <a:off x="6060960" y="129528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Shape 29"/>
          <p:cNvCxnSpPr>
            <a:stCxn id="934" idx="3"/>
            <a:endCxn id="933" idx="0"/>
          </p:cNvCxnSpPr>
          <p:nvPr/>
        </p:nvCxnSpPr>
        <p:spPr>
          <a:xfrm>
            <a:off x="6777000" y="1584360"/>
            <a:ext cx="5625360" cy="55008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37" name="Title 1"/>
          <p:cNvSpPr/>
          <p:nvPr/>
        </p:nvSpPr>
        <p:spPr>
          <a:xfrm>
            <a:off x="290520" y="1625760"/>
            <a:ext cx="1245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Arial"/>
              </a:rPr>
              <a:t>KEY ACTIV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itle 1"/>
          <p:cNvSpPr/>
          <p:nvPr/>
        </p:nvSpPr>
        <p:spPr>
          <a:xfrm>
            <a:off x="290520" y="762120"/>
            <a:ext cx="130446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SE 6: OPERATE AND SU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33"/>
          <p:cNvSpPr/>
          <p:nvPr/>
        </p:nvSpPr>
        <p:spPr>
          <a:xfrm>
            <a:off x="533520" y="2286000"/>
            <a:ext cx="1295388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operations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out services and systems (functionality and geograph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 and benefits evaluation and rei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2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ined change, capacity building and communica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41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943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946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949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952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955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958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60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961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26"/>
          <p:cNvSpPr/>
          <p:nvPr/>
        </p:nvSpPr>
        <p:spPr>
          <a:xfrm>
            <a:off x="19080" y="4775040"/>
            <a:ext cx="13716000" cy="8175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27"/>
          <p:cNvSpPr/>
          <p:nvPr/>
        </p:nvSpPr>
        <p:spPr>
          <a:xfrm>
            <a:off x="4689360" y="731520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5" name="Shape 29"/>
          <p:cNvCxnSpPr>
            <a:stCxn id="964" idx="3"/>
            <a:endCxn id="963" idx="4"/>
          </p:cNvCxnSpPr>
          <p:nvPr/>
        </p:nvCxnSpPr>
        <p:spPr>
          <a:xfrm flipV="1">
            <a:off x="5405400" y="5592240"/>
            <a:ext cx="1472400" cy="201240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228600" y="1599840"/>
            <a:ext cx="132588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8888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direction and to manage the project through out the lifecycle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project development and implementation inline with the overall vision and objectiv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operationalise the project strategy inline with the defined timelin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application of learnings and best practices across initiatives/geographies/ function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e, monitor and track the project activities…..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1" marL="48888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SITION: 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sts of management and operations team from Government with experts/support staff from private sector entitie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s to project leadership team for seeking necessary guidance and support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be intact throughout the project lifecycle till successful stabilization of the systems and operations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ze of team, roles and responsibilities may vary from phase to phase</a:t>
            </a: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0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68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ROJECT MANAGEMENT OFFICE/UN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800" spc="-1" strike="noStrike">
                <a:solidFill>
                  <a:srgbClr val="3a4972"/>
                </a:solidFill>
                <a:latin typeface="Arial"/>
              </a:rPr>
              <a:t>e-Governance Project Life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70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78"/>
          <p:cNvGrpSpPr/>
          <p:nvPr/>
        </p:nvGrpSpPr>
        <p:grpSpPr>
          <a:xfrm>
            <a:off x="114480" y="2743200"/>
            <a:ext cx="2138040" cy="1219320"/>
            <a:chOff x="114480" y="2743200"/>
            <a:chExt cx="2138040" cy="1219320"/>
          </a:xfrm>
        </p:grpSpPr>
        <p:sp>
          <p:nvSpPr>
            <p:cNvPr id="972" name="Rounded Rectangle 7"/>
            <p:cNvSpPr/>
            <p:nvPr/>
          </p:nvSpPr>
          <p:spPr>
            <a:xfrm>
              <a:off x="11448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ounded Rectangle 5"/>
            <p:cNvSpPr/>
            <p:nvPr/>
          </p:nvSpPr>
          <p:spPr>
            <a:xfrm>
              <a:off x="184320" y="2801880"/>
              <a:ext cx="2000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. Vision &amp;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975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978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981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984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987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9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990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26"/>
          <p:cNvSpPr/>
          <p:nvPr/>
        </p:nvSpPr>
        <p:spPr>
          <a:xfrm>
            <a:off x="0" y="5535720"/>
            <a:ext cx="13716000" cy="81576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27"/>
          <p:cNvSpPr/>
          <p:nvPr/>
        </p:nvSpPr>
        <p:spPr>
          <a:xfrm>
            <a:off x="4689360" y="731520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4" name="Shape 29"/>
          <p:cNvCxnSpPr>
            <a:stCxn id="993" idx="3"/>
            <a:endCxn id="992" idx="4"/>
          </p:cNvCxnSpPr>
          <p:nvPr/>
        </p:nvCxnSpPr>
        <p:spPr>
          <a:xfrm flipV="1">
            <a:off x="5405040" y="6351120"/>
            <a:ext cx="1453320" cy="1253520"/>
          </a:xfrm>
          <a:prstGeom prst="bentConnector2">
            <a:avLst/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Governance Project Lifecycle (eGLC)</a:t>
            </a:r>
            <a:endParaRPr b="0" lang="en-US" sz="2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19040" y="2057040"/>
            <a:ext cx="1291608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88880" indent="-48888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ly is driven by Project Management Office/Unit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1" marL="488880" indent="-48888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 is to address and manage the ‘people’ related aspects in the project implementation including:</a:t>
            </a: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ing the people change in terms of addressing the resistance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ing people resistance to change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ng the project vision, objectives and benefits to all the stakeholder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4" marL="1517760" indent="-488880">
              <a:lnSpc>
                <a:spcPct val="15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build skill sets and capacities across various levels in the organization to adopt new processes and systems</a:t>
            </a:r>
            <a:endParaRPr b="0" lang="en-US" sz="28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  <a:p>
            <a:pPr lvl="3" marL="1106640" indent="-48924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32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97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HANGE MANAGEMENT AND COMMUNI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5100" spc="-1" strike="noStrike">
                <a:solidFill>
                  <a:srgbClr val="3a4972"/>
                </a:solidFill>
                <a:latin typeface="Arial"/>
              </a:rPr>
              <a:t>Essence of Good Governance</a:t>
            </a:r>
            <a:endParaRPr b="0" lang="en-US" sz="5100" spc="-1" strike="noStrike">
              <a:solidFill>
                <a:srgbClr val="3a4972"/>
              </a:solidFill>
              <a:latin typeface="Arial"/>
            </a:endParaRPr>
          </a:p>
        </p:txBody>
      </p:sp>
      <p:grpSp>
        <p:nvGrpSpPr>
          <p:cNvPr id="600" name="Group 3"/>
          <p:cNvGrpSpPr/>
          <p:nvPr/>
        </p:nvGrpSpPr>
        <p:grpSpPr>
          <a:xfrm>
            <a:off x="1828800" y="2438280"/>
            <a:ext cx="10899360" cy="1726920"/>
            <a:chOff x="1828800" y="2438280"/>
            <a:chExt cx="10899360" cy="1726920"/>
          </a:xfrm>
        </p:grpSpPr>
        <p:sp>
          <p:nvSpPr>
            <p:cNvPr id="601" name="AutoShape 4"/>
            <p:cNvSpPr/>
            <p:nvPr/>
          </p:nvSpPr>
          <p:spPr>
            <a:xfrm>
              <a:off x="1828800" y="2742840"/>
              <a:ext cx="5371920" cy="1218960"/>
            </a:xfrm>
            <a:custGeom>
              <a:avLst/>
              <a:gdLst>
                <a:gd name="textAreaLeft" fmla="*/ 0 w 5371920"/>
                <a:gd name="textAreaRight" fmla="*/ 5372280 w 53719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f0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Least Governanc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7315560" y="2438280"/>
              <a:ext cx="5412600" cy="1726920"/>
            </a:xfrm>
            <a:prstGeom prst="rect">
              <a:avLst/>
            </a:prstGeom>
            <a:solidFill>
              <a:srgbClr val="65e2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Deregulation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Right-Sizi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Partnership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6"/>
          <p:cNvGrpSpPr/>
          <p:nvPr/>
        </p:nvGrpSpPr>
        <p:grpSpPr>
          <a:xfrm>
            <a:off x="1828800" y="4775040"/>
            <a:ext cx="11315520" cy="1726920"/>
            <a:chOff x="1828800" y="4775040"/>
            <a:chExt cx="11315520" cy="1726920"/>
          </a:xfrm>
        </p:grpSpPr>
        <p:sp>
          <p:nvSpPr>
            <p:cNvPr id="604" name="AutoShape 7"/>
            <p:cNvSpPr/>
            <p:nvPr/>
          </p:nvSpPr>
          <p:spPr>
            <a:xfrm>
              <a:off x="1828800" y="4978440"/>
              <a:ext cx="5371920" cy="1218600"/>
            </a:xfrm>
            <a:custGeom>
              <a:avLst/>
              <a:gdLst>
                <a:gd name="textAreaLeft" fmla="*/ 0 w 5371920"/>
                <a:gd name="textAreaRight" fmla="*/ 5372280 w 537192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f0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Customer-centric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Governanc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8"/>
            <p:cNvSpPr/>
            <p:nvPr/>
          </p:nvSpPr>
          <p:spPr>
            <a:xfrm>
              <a:off x="7315200" y="4775040"/>
              <a:ext cx="5829120" cy="1726920"/>
            </a:xfrm>
            <a:prstGeom prst="rect">
              <a:avLst/>
            </a:prstGeom>
            <a:solidFill>
              <a:srgbClr val="65e2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Service-centricity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Efficiency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Transparency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"/>
          <p:cNvGrpSpPr/>
          <p:nvPr/>
        </p:nvGrpSpPr>
        <p:grpSpPr>
          <a:xfrm>
            <a:off x="1828800" y="7010280"/>
            <a:ext cx="11315520" cy="1726920"/>
            <a:chOff x="1828800" y="7010280"/>
            <a:chExt cx="11315520" cy="1726920"/>
          </a:xfrm>
        </p:grpSpPr>
        <p:sp>
          <p:nvSpPr>
            <p:cNvPr id="607" name="AutoShape 10"/>
            <p:cNvSpPr/>
            <p:nvPr/>
          </p:nvSpPr>
          <p:spPr>
            <a:xfrm>
              <a:off x="1828800" y="7213320"/>
              <a:ext cx="5371920" cy="1218960"/>
            </a:xfrm>
            <a:custGeom>
              <a:avLst/>
              <a:gdLst>
                <a:gd name="textAreaLeft" fmla="*/ 0 w 5371920"/>
                <a:gd name="textAreaRight" fmla="*/ 5372280 w 537192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f0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Participativ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3400" spc="-1" strike="noStrike">
                  <a:solidFill>
                    <a:srgbClr val="ffff00"/>
                  </a:solidFill>
                  <a:latin typeface="Verdana"/>
                </a:rPr>
                <a:t>Governanc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1"/>
            <p:cNvSpPr/>
            <p:nvPr/>
          </p:nvSpPr>
          <p:spPr>
            <a:xfrm>
              <a:off x="7315200" y="7010280"/>
              <a:ext cx="5829120" cy="1726920"/>
            </a:xfrm>
            <a:prstGeom prst="rect">
              <a:avLst/>
            </a:prstGeom>
            <a:solidFill>
              <a:srgbClr val="65e2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Inclusion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Verdana"/>
                </a:rPr>
                <a:t>Consultation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43080" y="20304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e-Governance Project Lifecycle (eGLC)</a:t>
            </a:r>
            <a:endParaRPr b="0" lang="en-US" sz="39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99" name="Right Arrow 5"/>
          <p:cNvSpPr/>
          <p:nvPr/>
        </p:nvSpPr>
        <p:spPr>
          <a:xfrm>
            <a:off x="1190520" y="990720"/>
            <a:ext cx="11373120" cy="30477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78"/>
          <p:cNvGrpSpPr/>
          <p:nvPr/>
        </p:nvGrpSpPr>
        <p:grpSpPr>
          <a:xfrm>
            <a:off x="190440" y="1905120"/>
            <a:ext cx="2138400" cy="1218960"/>
            <a:chOff x="190440" y="1905120"/>
            <a:chExt cx="2138400" cy="1218960"/>
          </a:xfrm>
        </p:grpSpPr>
        <p:sp>
          <p:nvSpPr>
            <p:cNvPr id="1001" name="Rounded Rectangle 7"/>
            <p:cNvSpPr/>
            <p:nvPr/>
          </p:nvSpPr>
          <p:spPr>
            <a:xfrm>
              <a:off x="190440" y="1905120"/>
              <a:ext cx="2138400" cy="12189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ounded Rectangle 5"/>
            <p:cNvSpPr/>
            <p:nvPr/>
          </p:nvSpPr>
          <p:spPr>
            <a:xfrm>
              <a:off x="260280" y="1963800"/>
              <a:ext cx="200052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e-Governance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79"/>
          <p:cNvGrpSpPr/>
          <p:nvPr/>
        </p:nvGrpSpPr>
        <p:grpSpPr>
          <a:xfrm>
            <a:off x="2436840" y="1905120"/>
            <a:ext cx="2139840" cy="1218960"/>
            <a:chOff x="2436840" y="1905120"/>
            <a:chExt cx="2139840" cy="1218960"/>
          </a:xfrm>
        </p:grpSpPr>
        <p:sp>
          <p:nvSpPr>
            <p:cNvPr id="1004" name="Rounded Rectangle 10"/>
            <p:cNvSpPr/>
            <p:nvPr/>
          </p:nvSpPr>
          <p:spPr>
            <a:xfrm>
              <a:off x="2436840" y="1905120"/>
              <a:ext cx="2139840" cy="121896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7"/>
            <p:cNvSpPr/>
            <p:nvPr/>
          </p:nvSpPr>
          <p:spPr>
            <a:xfrm>
              <a:off x="2504880" y="1963800"/>
              <a:ext cx="200340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Group 80"/>
          <p:cNvGrpSpPr/>
          <p:nvPr/>
        </p:nvGrpSpPr>
        <p:grpSpPr>
          <a:xfrm>
            <a:off x="4684680" y="1905120"/>
            <a:ext cx="2139840" cy="1218960"/>
            <a:chOff x="4684680" y="1905120"/>
            <a:chExt cx="2139840" cy="1218960"/>
          </a:xfrm>
        </p:grpSpPr>
        <p:sp>
          <p:nvSpPr>
            <p:cNvPr id="1007" name="Rounded Rectangle 13"/>
            <p:cNvSpPr/>
            <p:nvPr/>
          </p:nvSpPr>
          <p:spPr>
            <a:xfrm>
              <a:off x="4684680" y="1905120"/>
              <a:ext cx="2139840" cy="121896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ounded Rectangle 9"/>
            <p:cNvSpPr/>
            <p:nvPr/>
          </p:nvSpPr>
          <p:spPr>
            <a:xfrm>
              <a:off x="4752720" y="1963800"/>
              <a:ext cx="200340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81"/>
          <p:cNvGrpSpPr/>
          <p:nvPr/>
        </p:nvGrpSpPr>
        <p:grpSpPr>
          <a:xfrm>
            <a:off x="6932520" y="1905120"/>
            <a:ext cx="2138400" cy="1218960"/>
            <a:chOff x="6932520" y="1905120"/>
            <a:chExt cx="2138400" cy="1218960"/>
          </a:xfrm>
        </p:grpSpPr>
        <p:sp>
          <p:nvSpPr>
            <p:cNvPr id="1010" name="Rounded Rectangle 16"/>
            <p:cNvSpPr/>
            <p:nvPr/>
          </p:nvSpPr>
          <p:spPr>
            <a:xfrm>
              <a:off x="6932520" y="1905120"/>
              <a:ext cx="2138400" cy="121896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ounded Rectangle 11"/>
            <p:cNvSpPr/>
            <p:nvPr/>
          </p:nvSpPr>
          <p:spPr>
            <a:xfrm>
              <a:off x="7000560" y="1963800"/>
              <a:ext cx="20019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82"/>
          <p:cNvGrpSpPr/>
          <p:nvPr/>
        </p:nvGrpSpPr>
        <p:grpSpPr>
          <a:xfrm>
            <a:off x="9177480" y="1905120"/>
            <a:ext cx="2141280" cy="1218960"/>
            <a:chOff x="9177480" y="1905120"/>
            <a:chExt cx="2141280" cy="1218960"/>
          </a:xfrm>
        </p:grpSpPr>
        <p:sp>
          <p:nvSpPr>
            <p:cNvPr id="1013" name="Rounded Rectangle 19"/>
            <p:cNvSpPr/>
            <p:nvPr/>
          </p:nvSpPr>
          <p:spPr>
            <a:xfrm>
              <a:off x="9177480" y="1905120"/>
              <a:ext cx="2141280" cy="121896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ounded Rectangle 13"/>
            <p:cNvSpPr/>
            <p:nvPr/>
          </p:nvSpPr>
          <p:spPr>
            <a:xfrm>
              <a:off x="9247320" y="1963800"/>
              <a:ext cx="200160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83"/>
          <p:cNvGrpSpPr/>
          <p:nvPr/>
        </p:nvGrpSpPr>
        <p:grpSpPr>
          <a:xfrm>
            <a:off x="11425320" y="1905120"/>
            <a:ext cx="2138400" cy="1218960"/>
            <a:chOff x="11425320" y="1905120"/>
            <a:chExt cx="2138400" cy="1218960"/>
          </a:xfrm>
        </p:grpSpPr>
        <p:sp>
          <p:nvSpPr>
            <p:cNvPr id="1016" name="Rounded Rectangle 22"/>
            <p:cNvSpPr/>
            <p:nvPr/>
          </p:nvSpPr>
          <p:spPr>
            <a:xfrm>
              <a:off x="11425320" y="1905120"/>
              <a:ext cx="2138400" cy="12189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ounded Rectangle 15"/>
            <p:cNvSpPr/>
            <p:nvPr/>
          </p:nvSpPr>
          <p:spPr>
            <a:xfrm>
              <a:off x="11495160" y="1963800"/>
              <a:ext cx="200052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TextBox 28"/>
          <p:cNvSpPr/>
          <p:nvPr/>
        </p:nvSpPr>
        <p:spPr>
          <a:xfrm>
            <a:off x="65160" y="3556080"/>
            <a:ext cx="240012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Needs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clear vision &amp;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ioritization of services and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Incorporate domestic and global lear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Identify institutional structures &amp; capacities for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fund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monitoring and evaluation approach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314440" y="3556080"/>
            <a:ext cx="2400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assessment of current business processes and pai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practices in similar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legal framework and current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current ICT systems and their ability to support future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current capacities at all levels and their preparedness for e-governanc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30"/>
          <p:cNvSpPr/>
          <p:nvPr/>
        </p:nvSpPr>
        <p:spPr>
          <a:xfrm>
            <a:off x="4565520" y="3556080"/>
            <a:ext cx="240048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ocess reengineering and to –be proces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Identity IT enablement opportunities an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e changes to the legal and regulatory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velop People change and capacity building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velop project awareness and communication requirement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31"/>
          <p:cNvSpPr/>
          <p:nvPr/>
        </p:nvSpPr>
        <p:spPr>
          <a:xfrm>
            <a:off x="6815160" y="3556080"/>
            <a:ext cx="240012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implementation approach and phasing plan (functional and geograph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detailed funding requirements and bu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vendor evaluation and selection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KPIs and performance levels for service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R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d evaluation and vendo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2"/>
          <p:cNvSpPr/>
          <p:nvPr/>
        </p:nvSpPr>
        <p:spPr>
          <a:xfrm>
            <a:off x="9066240" y="3556080"/>
            <a:ext cx="2400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Definition of detailed functional and technic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System design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Software quality assurance, acceptance testing and au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Training and capacity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Change management and project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oject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2666a6"/>
                </a:solidFill>
                <a:latin typeface="Arial"/>
              </a:rPr>
              <a:t>Project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33"/>
          <p:cNvSpPr/>
          <p:nvPr/>
        </p:nvSpPr>
        <p:spPr>
          <a:xfrm>
            <a:off x="11315880" y="3556080"/>
            <a:ext cx="240012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operations and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chang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out services and systems (functionality and ge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 and benefits evaluation and reinfor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tained change, capacity building and communication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28600" y="20304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3a4972"/>
                </a:solidFill>
                <a:latin typeface="Arial"/>
              </a:rPr>
              <a:t>eGLC vs Software Development Lifecycle (SDLC)</a:t>
            </a:r>
            <a:endParaRPr b="0" lang="en-US" sz="35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25" name="TextBox 4"/>
          <p:cNvSpPr/>
          <p:nvPr/>
        </p:nvSpPr>
        <p:spPr>
          <a:xfrm>
            <a:off x="457200" y="1498680"/>
            <a:ext cx="5829480" cy="73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marL="498600" indent="-498600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600" spc="-1" strike="noStrike">
                <a:solidFill>
                  <a:srgbClr val="081e26"/>
                </a:solidFill>
                <a:latin typeface="Arial"/>
              </a:rPr>
              <a:t>SD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activities performed at each stage of a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Methodology used from the conception phase through to th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on technical artifacts and right approach for software design, development , implementa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on technical and process related aspects of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Focuses Software Quality Assurance to get the end product inline with define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5"/>
          <p:cNvSpPr/>
          <p:nvPr/>
        </p:nvSpPr>
        <p:spPr>
          <a:xfrm>
            <a:off x="6858000" y="1498680"/>
            <a:ext cx="582948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marL="498600" indent="-498600"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600" spc="-1" strike="noStrike">
                <a:solidFill>
                  <a:srgbClr val="081e26"/>
                </a:solidFill>
                <a:latin typeface="Arial"/>
              </a:rPr>
              <a:t>eG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SDLC is an integral part and only a component of eG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eGLC focuses on business and stakeholder needs and pri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Outcomes and benefits orient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400" spc="-1" strike="noStrike">
                <a:solidFill>
                  <a:srgbClr val="081e26"/>
                </a:solidFill>
                <a:latin typeface="Arial"/>
                <a:ea typeface="Arial"/>
              </a:rPr>
              <a:t>All encompassing with focus on other critical enablers (GPR, people, legal, M &amp; E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Box 7"/>
          <p:cNvSpPr/>
          <p:nvPr/>
        </p:nvSpPr>
        <p:spPr>
          <a:xfrm>
            <a:off x="1166040" y="1117440"/>
            <a:ext cx="5375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-Government Project Life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71320" y="304920"/>
            <a:ext cx="124585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300" spc="-1" strike="noStrike">
                <a:solidFill>
                  <a:srgbClr val="3a4972"/>
                </a:solidFill>
                <a:latin typeface="Arial"/>
              </a:rPr>
              <a:t>How different is e-Government Life Cycle from SDLC?</a:t>
            </a:r>
            <a:endParaRPr b="0" lang="en-US" sz="33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29" name="Right Arrow 77"/>
          <p:cNvSpPr/>
          <p:nvPr/>
        </p:nvSpPr>
        <p:spPr>
          <a:xfrm>
            <a:off x="1917720" y="1015920"/>
            <a:ext cx="10102680" cy="28447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78"/>
          <p:cNvGrpSpPr/>
          <p:nvPr/>
        </p:nvGrpSpPr>
        <p:grpSpPr>
          <a:xfrm>
            <a:off x="1028880" y="1868400"/>
            <a:ext cx="1900080" cy="1139760"/>
            <a:chOff x="1028880" y="1868400"/>
            <a:chExt cx="1900080" cy="1139760"/>
          </a:xfrm>
        </p:grpSpPr>
        <p:sp>
          <p:nvSpPr>
            <p:cNvPr id="1031" name="Rounded Rectangle 94"/>
            <p:cNvSpPr/>
            <p:nvPr/>
          </p:nvSpPr>
          <p:spPr>
            <a:xfrm>
              <a:off x="1028880" y="1868400"/>
              <a:ext cx="1900080" cy="11397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ounded Rectangle 5"/>
            <p:cNvSpPr/>
            <p:nvPr/>
          </p:nvSpPr>
          <p:spPr>
            <a:xfrm>
              <a:off x="109044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e-Governance Strategy Develop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79"/>
          <p:cNvGrpSpPr/>
          <p:nvPr/>
        </p:nvGrpSpPr>
        <p:grpSpPr>
          <a:xfrm>
            <a:off x="3024360" y="1868400"/>
            <a:ext cx="1900080" cy="1139760"/>
            <a:chOff x="3024360" y="1868400"/>
            <a:chExt cx="1900080" cy="1139760"/>
          </a:xfrm>
        </p:grpSpPr>
        <p:sp>
          <p:nvSpPr>
            <p:cNvPr id="1034" name="Rounded Rectangle 92"/>
            <p:cNvSpPr/>
            <p:nvPr/>
          </p:nvSpPr>
          <p:spPr>
            <a:xfrm>
              <a:off x="3024360" y="1868400"/>
              <a:ext cx="1900080" cy="113976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ounded Rectangle 7"/>
            <p:cNvSpPr/>
            <p:nvPr/>
          </p:nvSpPr>
          <p:spPr>
            <a:xfrm>
              <a:off x="308592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80"/>
          <p:cNvGrpSpPr/>
          <p:nvPr/>
        </p:nvGrpSpPr>
        <p:grpSpPr>
          <a:xfrm>
            <a:off x="5019840" y="1868400"/>
            <a:ext cx="1903320" cy="1139760"/>
            <a:chOff x="5019840" y="1868400"/>
            <a:chExt cx="1903320" cy="1139760"/>
          </a:xfrm>
        </p:grpSpPr>
        <p:sp>
          <p:nvSpPr>
            <p:cNvPr id="1037" name="Rounded Rectangle 90"/>
            <p:cNvSpPr/>
            <p:nvPr/>
          </p:nvSpPr>
          <p:spPr>
            <a:xfrm>
              <a:off x="5019840" y="1868400"/>
              <a:ext cx="1903320" cy="113976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ounded Rectangle 9"/>
            <p:cNvSpPr/>
            <p:nvPr/>
          </p:nvSpPr>
          <p:spPr>
            <a:xfrm>
              <a:off x="5081760" y="1923840"/>
              <a:ext cx="177948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81"/>
          <p:cNvGrpSpPr/>
          <p:nvPr/>
        </p:nvGrpSpPr>
        <p:grpSpPr>
          <a:xfrm>
            <a:off x="7018200" y="1868400"/>
            <a:ext cx="1900440" cy="1139760"/>
            <a:chOff x="7018200" y="1868400"/>
            <a:chExt cx="1900440" cy="1139760"/>
          </a:xfrm>
        </p:grpSpPr>
        <p:sp>
          <p:nvSpPr>
            <p:cNvPr id="1040" name="Rounded Rectangle 88"/>
            <p:cNvSpPr/>
            <p:nvPr/>
          </p:nvSpPr>
          <p:spPr>
            <a:xfrm>
              <a:off x="7018200" y="1868400"/>
              <a:ext cx="1900440" cy="113976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ounded Rectangle 11"/>
            <p:cNvSpPr/>
            <p:nvPr/>
          </p:nvSpPr>
          <p:spPr>
            <a:xfrm>
              <a:off x="708012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82"/>
          <p:cNvGrpSpPr/>
          <p:nvPr/>
        </p:nvGrpSpPr>
        <p:grpSpPr>
          <a:xfrm>
            <a:off x="9013680" y="1868400"/>
            <a:ext cx="1900440" cy="1139760"/>
            <a:chOff x="9013680" y="1868400"/>
            <a:chExt cx="1900440" cy="1139760"/>
          </a:xfrm>
        </p:grpSpPr>
        <p:sp>
          <p:nvSpPr>
            <p:cNvPr id="1043" name="Rounded Rectangle 86"/>
            <p:cNvSpPr/>
            <p:nvPr/>
          </p:nvSpPr>
          <p:spPr>
            <a:xfrm>
              <a:off x="9013680" y="1868400"/>
              <a:ext cx="1900440" cy="113976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ounded Rectangle 13"/>
            <p:cNvSpPr/>
            <p:nvPr/>
          </p:nvSpPr>
          <p:spPr>
            <a:xfrm>
              <a:off x="907560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83"/>
          <p:cNvGrpSpPr/>
          <p:nvPr/>
        </p:nvGrpSpPr>
        <p:grpSpPr>
          <a:xfrm>
            <a:off x="11009160" y="1868400"/>
            <a:ext cx="1900440" cy="1139760"/>
            <a:chOff x="11009160" y="1868400"/>
            <a:chExt cx="1900440" cy="1139760"/>
          </a:xfrm>
        </p:grpSpPr>
        <p:sp>
          <p:nvSpPr>
            <p:cNvPr id="1046" name="Rounded Rectangle 84"/>
            <p:cNvSpPr/>
            <p:nvPr/>
          </p:nvSpPr>
          <p:spPr>
            <a:xfrm>
              <a:off x="11009160" y="1868400"/>
              <a:ext cx="1900440" cy="113976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ounded Rectangle 15"/>
            <p:cNvSpPr/>
            <p:nvPr/>
          </p:nvSpPr>
          <p:spPr>
            <a:xfrm>
              <a:off x="11071080" y="1923840"/>
              <a:ext cx="1776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Rectangle 15"/>
          <p:cNvSpPr/>
          <p:nvPr/>
        </p:nvSpPr>
        <p:spPr>
          <a:xfrm>
            <a:off x="685800" y="5587920"/>
            <a:ext cx="11315880" cy="2641680"/>
          </a:xfrm>
          <a:prstGeom prst="rect">
            <a:avLst/>
          </a:prstGeom>
          <a:solidFill>
            <a:srgbClr val="b1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16"/>
          <p:cNvSpPr/>
          <p:nvPr/>
        </p:nvSpPr>
        <p:spPr>
          <a:xfrm>
            <a:off x="952560" y="5689440"/>
            <a:ext cx="59086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300" spc="-1" strike="noStrike">
                <a:solidFill>
                  <a:srgbClr val="3a4972"/>
                </a:solidFill>
                <a:latin typeface="Arial"/>
              </a:rPr>
              <a:t>Software Development Life Cyc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ight Arrow 17"/>
          <p:cNvSpPr/>
          <p:nvPr/>
        </p:nvSpPr>
        <p:spPr>
          <a:xfrm>
            <a:off x="1542960" y="5707080"/>
            <a:ext cx="10039320" cy="2575080"/>
          </a:xfrm>
          <a:prstGeom prst="rightArrow">
            <a:avLst>
              <a:gd name="adj1" fmla="val 51204"/>
              <a:gd name="adj2" fmla="val 5059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18"/>
          <p:cNvGrpSpPr/>
          <p:nvPr/>
        </p:nvGrpSpPr>
        <p:grpSpPr>
          <a:xfrm>
            <a:off x="1009800" y="6400800"/>
            <a:ext cx="1350720" cy="982800"/>
            <a:chOff x="1009800" y="6400800"/>
            <a:chExt cx="1350720" cy="982800"/>
          </a:xfrm>
        </p:grpSpPr>
        <p:sp>
          <p:nvSpPr>
            <p:cNvPr id="1052" name="Rounded Rectangle 19"/>
            <p:cNvSpPr/>
            <p:nvPr/>
          </p:nvSpPr>
          <p:spPr>
            <a:xfrm>
              <a:off x="1009800" y="6400800"/>
              <a:ext cx="1350720" cy="98280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ounded Rectangle 5"/>
            <p:cNvSpPr/>
            <p:nvPr/>
          </p:nvSpPr>
          <p:spPr>
            <a:xfrm>
              <a:off x="1071360" y="6449760"/>
              <a:ext cx="12272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en-US" sz="1400" spc="-1" strike="noStrike">
                  <a:solidFill>
                    <a:srgbClr val="3a4972"/>
                  </a:solidFill>
                  <a:latin typeface="Arial"/>
                </a:rPr>
                <a:t>Requirement 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Rounded Rectangle 22"/>
          <p:cNvSpPr/>
          <p:nvPr/>
        </p:nvSpPr>
        <p:spPr>
          <a:xfrm>
            <a:off x="2838600" y="6400800"/>
            <a:ext cx="1390680" cy="982800"/>
          </a:xfrm>
          <a:prstGeom prst="roundRect">
            <a:avLst>
              <a:gd name="adj" fmla="val 16667"/>
            </a:avLst>
          </a:prstGeom>
          <a:solidFill>
            <a:srgbClr val="dcf9f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ounded Rectangle 25"/>
          <p:cNvSpPr/>
          <p:nvPr/>
        </p:nvSpPr>
        <p:spPr>
          <a:xfrm>
            <a:off x="4838760" y="6400800"/>
            <a:ext cx="1333440" cy="982800"/>
          </a:xfrm>
          <a:prstGeom prst="roundRect">
            <a:avLst>
              <a:gd name="adj" fmla="val 16667"/>
            </a:avLst>
          </a:prstGeom>
          <a:solidFill>
            <a:srgbClr val="e0fb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ounded Rectangle 28"/>
          <p:cNvSpPr/>
          <p:nvPr/>
        </p:nvSpPr>
        <p:spPr>
          <a:xfrm>
            <a:off x="6629400" y="6400800"/>
            <a:ext cx="1486080" cy="982800"/>
          </a:xfrm>
          <a:prstGeom prst="roundRect">
            <a:avLst>
              <a:gd name="adj" fmla="val 16667"/>
            </a:avLst>
          </a:prstGeom>
          <a:solidFill>
            <a:srgbClr val="e5fd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ounded Rectangle 31"/>
          <p:cNvSpPr/>
          <p:nvPr/>
        </p:nvSpPr>
        <p:spPr>
          <a:xfrm>
            <a:off x="8825040" y="6402240"/>
            <a:ext cx="1576440" cy="982800"/>
          </a:xfrm>
          <a:prstGeom prst="roundRect">
            <a:avLst>
              <a:gd name="adj" fmla="val 16667"/>
            </a:avLst>
          </a:prstGeom>
          <a:solidFill>
            <a:srgbClr val="f0fee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Diagonal Stripe 75"/>
          <p:cNvSpPr/>
          <p:nvPr/>
        </p:nvSpPr>
        <p:spPr>
          <a:xfrm rot="4266600">
            <a:off x="4723200" y="238680"/>
            <a:ext cx="3241440" cy="10711080"/>
          </a:xfrm>
          <a:custGeom>
            <a:avLst/>
            <a:gdLst>
              <a:gd name="textAreaLeft" fmla="*/ 0 w 3241440"/>
              <a:gd name="textAreaRight" fmla="*/ 1944000 w 3241440"/>
              <a:gd name="textAreaTop" fmla="*/ 0 h 10711080"/>
              <a:gd name="textAreaBottom" fmla="*/ 6423840 h 10711080"/>
            </a:gdLst>
            <a:ahLst/>
            <a:rect l="textAreaLeft" t="textAreaTop" r="textAreaRight" b="textAreaBottom"/>
            <a:pathLst>
              <a:path w="3241675" h="10710862">
                <a:moveTo>
                  <a:pt x="0" y="2136710"/>
                </a:moveTo>
                <a:lnTo>
                  <a:pt x="646682" y="0"/>
                </a:lnTo>
                <a:lnTo>
                  <a:pt x="3241675" y="0"/>
                </a:lnTo>
                <a:lnTo>
                  <a:pt x="0" y="10710862"/>
                </a:lnTo>
                <a:close/>
              </a:path>
            </a:pathLst>
          </a:custGeom>
          <a:solidFill>
            <a:srgbClr val="b1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ounded Rectangle 13"/>
          <p:cNvSpPr/>
          <p:nvPr/>
        </p:nvSpPr>
        <p:spPr>
          <a:xfrm>
            <a:off x="8893080" y="6451560"/>
            <a:ext cx="1452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ounded Rectangle 11"/>
          <p:cNvSpPr/>
          <p:nvPr/>
        </p:nvSpPr>
        <p:spPr>
          <a:xfrm>
            <a:off x="6786720" y="6440400"/>
            <a:ext cx="121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ounded Rectangle 9"/>
          <p:cNvSpPr/>
          <p:nvPr/>
        </p:nvSpPr>
        <p:spPr>
          <a:xfrm>
            <a:off x="4807080" y="6450120"/>
            <a:ext cx="144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Construction (development or co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ounded Rectangle 7"/>
          <p:cNvSpPr/>
          <p:nvPr/>
        </p:nvSpPr>
        <p:spPr>
          <a:xfrm>
            <a:off x="2903400" y="6434280"/>
            <a:ext cx="12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59760" anchor="ctr">
            <a:noAutofit/>
          </a:bodyPr>
          <a:p>
            <a:pPr algn="ctr"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1400" spc="-1" strike="noStrike">
                <a:solidFill>
                  <a:srgbClr val="3a4972"/>
                </a:solidFill>
                <a:latin typeface="Arial"/>
              </a:rPr>
              <a:t>Syste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TextBox 1"/>
          <p:cNvSpPr/>
          <p:nvPr/>
        </p:nvSpPr>
        <p:spPr>
          <a:xfrm>
            <a:off x="2101320" y="2438280"/>
            <a:ext cx="9045000" cy="31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Arial"/>
              </a:rPr>
              <a:t>THANK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@nielit.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04560" y="1599840"/>
            <a:ext cx="12877560" cy="71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e-Governance in India has steadily evolved from computerization of Government Departments to initiatives that encapsulate the finer points of Governance, such as citizen centricity, service orientation and transparency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Lessons from previous e-Governance initiatives have played an important role in shaping the progressive e-Governance strategy of the country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  <a:p>
            <a:pPr algn="just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Arial"/>
              </a:rPr>
              <a:t>Programme, approach has the potential of enabling huge savings in costs through sharing of core and support infrastructure, enabling interoperability through standards, and of presenting a seamless view of Government to citizens.</a:t>
            </a:r>
            <a:endParaRPr b="0" lang="en-US" sz="29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52760" y="163080"/>
            <a:ext cx="10423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Governance in India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452760" y="163080"/>
            <a:ext cx="10423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eGovernance Plan (NeGP)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  <p:pic>
        <p:nvPicPr>
          <p:cNvPr id="612" name="Picture 6" descr="main-negp.jpg"/>
          <p:cNvPicPr/>
          <p:nvPr/>
        </p:nvPicPr>
        <p:blipFill>
          <a:blip r:embed="rId1"/>
          <a:stretch/>
        </p:blipFill>
        <p:spPr>
          <a:xfrm>
            <a:off x="2209680" y="1116000"/>
            <a:ext cx="94489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5240" y="810720"/>
            <a:ext cx="132080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3400" spc="-1" strike="noStrike">
                <a:solidFill>
                  <a:srgbClr val="3a4972"/>
                </a:solidFill>
                <a:latin typeface="Arial"/>
              </a:rPr>
              <a:t>7 Steps in Implementation</a:t>
            </a:r>
            <a:endParaRPr b="0" lang="en-US" sz="3400" spc="-1" strike="noStrike">
              <a:solidFill>
                <a:srgbClr val="3a4972"/>
              </a:solidFill>
              <a:latin typeface="Arial"/>
            </a:endParaRPr>
          </a:p>
        </p:txBody>
      </p:sp>
      <p:grpSp>
        <p:nvGrpSpPr>
          <p:cNvPr id="614" name="Group 3"/>
          <p:cNvGrpSpPr/>
          <p:nvPr/>
        </p:nvGrpSpPr>
        <p:grpSpPr>
          <a:xfrm>
            <a:off x="800280" y="6705720"/>
            <a:ext cx="4343040" cy="2031480"/>
            <a:chOff x="800280" y="6705720"/>
            <a:chExt cx="4343040" cy="2031480"/>
          </a:xfrm>
        </p:grpSpPr>
        <p:sp>
          <p:nvSpPr>
            <p:cNvPr id="615" name="Oval 4">
              <a:hlinkClick r:id="rId1" action="ppaction://hlinksldjump"/>
            </p:cNvPr>
            <p:cNvSpPr/>
            <p:nvPr/>
          </p:nvSpPr>
          <p:spPr>
            <a:xfrm>
              <a:off x="800280" y="6705720"/>
              <a:ext cx="4343040" cy="203148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Conceptualize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5"/>
            <p:cNvSpPr/>
            <p:nvPr/>
          </p:nvSpPr>
          <p:spPr>
            <a:xfrm>
              <a:off x="2514600" y="6705720"/>
              <a:ext cx="1028520" cy="71100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6"/>
          <p:cNvGrpSpPr/>
          <p:nvPr/>
        </p:nvGrpSpPr>
        <p:grpSpPr>
          <a:xfrm>
            <a:off x="5029200" y="6502320"/>
            <a:ext cx="4343040" cy="2031840"/>
            <a:chOff x="5029200" y="6502320"/>
            <a:chExt cx="4343040" cy="2031840"/>
          </a:xfrm>
        </p:grpSpPr>
        <p:sp>
          <p:nvSpPr>
            <p:cNvPr id="618" name="Oval 7">
              <a:hlinkClick r:id="rId2" action="ppaction://hlinksldjump"/>
            </p:cNvPr>
            <p:cNvSpPr/>
            <p:nvPr/>
          </p:nvSpPr>
          <p:spPr>
            <a:xfrm>
              <a:off x="5029200" y="6502320"/>
              <a:ext cx="4343040" cy="20318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Architect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8"/>
            <p:cNvSpPr/>
            <p:nvPr/>
          </p:nvSpPr>
          <p:spPr>
            <a:xfrm>
              <a:off x="6743520" y="65023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9"/>
          <p:cNvGrpSpPr/>
          <p:nvPr/>
        </p:nvGrpSpPr>
        <p:grpSpPr>
          <a:xfrm>
            <a:off x="8115480" y="5587920"/>
            <a:ext cx="4343040" cy="2031840"/>
            <a:chOff x="8115480" y="5587920"/>
            <a:chExt cx="4343040" cy="2031840"/>
          </a:xfrm>
        </p:grpSpPr>
        <p:sp>
          <p:nvSpPr>
            <p:cNvPr id="621" name="Oval 10">
              <a:hlinkClick r:id="rId3" action="ppaction://hlinksldjump"/>
            </p:cNvPr>
            <p:cNvSpPr/>
            <p:nvPr/>
          </p:nvSpPr>
          <p:spPr>
            <a:xfrm>
              <a:off x="8115480" y="5587920"/>
              <a:ext cx="4343040" cy="203184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Develop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9829800" y="55879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2"/>
          <p:cNvGrpSpPr/>
          <p:nvPr/>
        </p:nvGrpSpPr>
        <p:grpSpPr>
          <a:xfrm>
            <a:off x="10401480" y="3962520"/>
            <a:ext cx="3314160" cy="2031480"/>
            <a:chOff x="10401480" y="3962520"/>
            <a:chExt cx="3314160" cy="2031480"/>
          </a:xfrm>
        </p:grpSpPr>
        <p:sp>
          <p:nvSpPr>
            <p:cNvPr id="624" name="Oval 13">
              <a:hlinkClick r:id="rId4" action="ppaction://hlinksldjump"/>
            </p:cNvPr>
            <p:cNvSpPr/>
            <p:nvPr/>
          </p:nvSpPr>
          <p:spPr>
            <a:xfrm>
              <a:off x="10401480" y="3962520"/>
              <a:ext cx="3314160" cy="20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Pilot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11709720" y="3962520"/>
              <a:ext cx="784800" cy="71100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5"/>
          <p:cNvGrpSpPr/>
          <p:nvPr/>
        </p:nvGrpSpPr>
        <p:grpSpPr>
          <a:xfrm>
            <a:off x="8001000" y="2438280"/>
            <a:ext cx="4343040" cy="2031840"/>
            <a:chOff x="8001000" y="2438280"/>
            <a:chExt cx="4343040" cy="2031840"/>
          </a:xfrm>
        </p:grpSpPr>
        <p:sp>
          <p:nvSpPr>
            <p:cNvPr id="627" name="Oval 16">
              <a:hlinkClick r:id="rId5" action="ppaction://hlinksldjump"/>
            </p:cNvPr>
            <p:cNvSpPr/>
            <p:nvPr/>
          </p:nvSpPr>
          <p:spPr>
            <a:xfrm>
              <a:off x="8001000" y="2438280"/>
              <a:ext cx="4343040" cy="20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Rollout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17"/>
            <p:cNvSpPr/>
            <p:nvPr/>
          </p:nvSpPr>
          <p:spPr>
            <a:xfrm>
              <a:off x="9715320" y="243828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4800600" y="1930320"/>
            <a:ext cx="4343040" cy="2031840"/>
            <a:chOff x="4800600" y="1930320"/>
            <a:chExt cx="4343040" cy="2031840"/>
          </a:xfrm>
        </p:grpSpPr>
        <p:sp>
          <p:nvSpPr>
            <p:cNvPr id="630" name="Oval 19">
              <a:hlinkClick r:id="rId6" action="ppaction://hlinksldjump"/>
            </p:cNvPr>
            <p:cNvSpPr/>
            <p:nvPr/>
          </p:nvSpPr>
          <p:spPr>
            <a:xfrm>
              <a:off x="4800600" y="1930320"/>
              <a:ext cx="4343040" cy="20318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20"/>
            <p:cNvSpPr/>
            <p:nvPr/>
          </p:nvSpPr>
          <p:spPr>
            <a:xfrm>
              <a:off x="6514920" y="19303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1"/>
          <p:cNvGrpSpPr/>
          <p:nvPr/>
        </p:nvGrpSpPr>
        <p:grpSpPr>
          <a:xfrm>
            <a:off x="1028880" y="1930320"/>
            <a:ext cx="4343040" cy="2031840"/>
            <a:chOff x="1028880" y="1930320"/>
            <a:chExt cx="4343040" cy="2031840"/>
          </a:xfrm>
        </p:grpSpPr>
        <p:sp>
          <p:nvSpPr>
            <p:cNvPr id="633" name="Oval 22"/>
            <p:cNvSpPr/>
            <p:nvPr/>
          </p:nvSpPr>
          <p:spPr>
            <a:xfrm>
              <a:off x="1028880" y="1930320"/>
              <a:ext cx="4343040" cy="20318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Enhance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3"/>
            <p:cNvSpPr/>
            <p:nvPr/>
          </p:nvSpPr>
          <p:spPr>
            <a:xfrm>
              <a:off x="2743200" y="1930320"/>
              <a:ext cx="1028520" cy="711360"/>
            </a:xfrm>
            <a:prstGeom prst="ellipse">
              <a:avLst/>
            </a:prstGeom>
            <a:solidFill>
              <a:srgbClr val="b1dc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305000"/>
                  <a:tab algn="l" pos="2610000"/>
                  <a:tab algn="l" pos="3914640"/>
                  <a:tab algn="l" pos="5219640"/>
                  <a:tab algn="l" pos="6524640"/>
                  <a:tab algn="l" pos="7829640"/>
                  <a:tab algn="l" pos="9134640"/>
                  <a:tab algn="l" pos="1043928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36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8"/>
          <p:cNvGrpSpPr/>
          <p:nvPr/>
        </p:nvGrpSpPr>
        <p:grpSpPr>
          <a:xfrm>
            <a:off x="0" y="2743200"/>
            <a:ext cx="2252520" cy="1219320"/>
            <a:chOff x="0" y="2743200"/>
            <a:chExt cx="2252520" cy="1219320"/>
          </a:xfrm>
        </p:grpSpPr>
        <p:sp>
          <p:nvSpPr>
            <p:cNvPr id="638" name="Rounded Rectangle 7"/>
            <p:cNvSpPr/>
            <p:nvPr/>
          </p:nvSpPr>
          <p:spPr>
            <a:xfrm>
              <a:off x="0" y="2743200"/>
              <a:ext cx="225252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ounded Rectangle 5"/>
            <p:cNvSpPr/>
            <p:nvPr/>
          </p:nvSpPr>
          <p:spPr>
            <a:xfrm>
              <a:off x="72720" y="2801880"/>
              <a:ext cx="21067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 Vision &amp; Strategy 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641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 Current State 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644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Future State Defin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647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. Implementation approach and sourc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650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653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. Operate and sust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55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656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3080" y="101520"/>
            <a:ext cx="12344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e-Governance Project Life Cycle (eGLC)</a:t>
            </a:r>
            <a:endParaRPr b="0" lang="en-US" sz="3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59" name="Right Arrow 5"/>
          <p:cNvSpPr/>
          <p:nvPr/>
        </p:nvSpPr>
        <p:spPr>
          <a:xfrm>
            <a:off x="1114560" y="1828800"/>
            <a:ext cx="11372760" cy="3048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ce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78"/>
          <p:cNvGrpSpPr/>
          <p:nvPr/>
        </p:nvGrpSpPr>
        <p:grpSpPr>
          <a:xfrm>
            <a:off x="20520" y="2624040"/>
            <a:ext cx="2417760" cy="1470240"/>
            <a:chOff x="20520" y="2624040"/>
            <a:chExt cx="2417760" cy="1470240"/>
          </a:xfrm>
        </p:grpSpPr>
        <p:sp>
          <p:nvSpPr>
            <p:cNvPr id="661" name="Rounded Rectangle 7"/>
            <p:cNvSpPr/>
            <p:nvPr/>
          </p:nvSpPr>
          <p:spPr>
            <a:xfrm>
              <a:off x="20520" y="2624040"/>
              <a:ext cx="2417760" cy="147024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ounded Rectangle 5"/>
            <p:cNvSpPr/>
            <p:nvPr/>
          </p:nvSpPr>
          <p:spPr>
            <a:xfrm>
              <a:off x="98280" y="2695320"/>
              <a:ext cx="226224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sion &amp; Strategy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79"/>
          <p:cNvGrpSpPr/>
          <p:nvPr/>
        </p:nvGrpSpPr>
        <p:grpSpPr>
          <a:xfrm>
            <a:off x="2360520" y="2743200"/>
            <a:ext cx="2140200" cy="1219320"/>
            <a:chOff x="2360520" y="2743200"/>
            <a:chExt cx="2140200" cy="1219320"/>
          </a:xfrm>
        </p:grpSpPr>
        <p:sp>
          <p:nvSpPr>
            <p:cNvPr id="664" name="Rounded Rectangle 10"/>
            <p:cNvSpPr/>
            <p:nvPr/>
          </p:nvSpPr>
          <p:spPr>
            <a:xfrm>
              <a:off x="236052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8bcb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ounded Rectangle 7"/>
            <p:cNvSpPr/>
            <p:nvPr/>
          </p:nvSpPr>
          <p:spPr>
            <a:xfrm>
              <a:off x="242856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. Current State 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80"/>
          <p:cNvGrpSpPr/>
          <p:nvPr/>
        </p:nvGrpSpPr>
        <p:grpSpPr>
          <a:xfrm>
            <a:off x="4608360" y="2743200"/>
            <a:ext cx="2140200" cy="1219320"/>
            <a:chOff x="4608360" y="2743200"/>
            <a:chExt cx="2140200" cy="1219320"/>
          </a:xfrm>
        </p:grpSpPr>
        <p:sp>
          <p:nvSpPr>
            <p:cNvPr id="667" name="Rounded Rectangle 13"/>
            <p:cNvSpPr/>
            <p:nvPr/>
          </p:nvSpPr>
          <p:spPr>
            <a:xfrm>
              <a:off x="4608360" y="2743200"/>
              <a:ext cx="2140200" cy="1219320"/>
            </a:xfrm>
            <a:prstGeom prst="roundRect">
              <a:avLst>
                <a:gd name="adj" fmla="val 16667"/>
              </a:avLst>
            </a:prstGeom>
            <a:solidFill>
              <a:srgbClr val="b1dc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ounded Rectangle 9"/>
            <p:cNvSpPr/>
            <p:nvPr/>
          </p:nvSpPr>
          <p:spPr>
            <a:xfrm>
              <a:off x="4676400" y="2801880"/>
              <a:ext cx="20037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3. Future State Defini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81"/>
          <p:cNvGrpSpPr/>
          <p:nvPr/>
        </p:nvGrpSpPr>
        <p:grpSpPr>
          <a:xfrm>
            <a:off x="6856560" y="2743200"/>
            <a:ext cx="2138040" cy="1219320"/>
            <a:chOff x="6856560" y="2743200"/>
            <a:chExt cx="2138040" cy="1219320"/>
          </a:xfrm>
        </p:grpSpPr>
        <p:sp>
          <p:nvSpPr>
            <p:cNvPr id="670" name="Rounded Rectangle 16"/>
            <p:cNvSpPr/>
            <p:nvPr/>
          </p:nvSpPr>
          <p:spPr>
            <a:xfrm>
              <a:off x="6856560" y="2743200"/>
              <a:ext cx="2138040" cy="1219320"/>
            </a:xfrm>
            <a:prstGeom prst="roundRect">
              <a:avLst>
                <a:gd name="adj" fmla="val 16667"/>
              </a:avLst>
            </a:prstGeom>
            <a:solidFill>
              <a:srgbClr val="d8eef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ounded Rectangle 11"/>
            <p:cNvSpPr/>
            <p:nvPr/>
          </p:nvSpPr>
          <p:spPr>
            <a:xfrm>
              <a:off x="6924600" y="2801880"/>
              <a:ext cx="20016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3a4972"/>
                  </a:solidFill>
                  <a:latin typeface="Arial"/>
                </a:rPr>
                <a:t>4. Implementation approach and sourc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82"/>
          <p:cNvGrpSpPr/>
          <p:nvPr/>
        </p:nvGrpSpPr>
        <p:grpSpPr>
          <a:xfrm>
            <a:off x="9101160" y="2743200"/>
            <a:ext cx="2141640" cy="1219320"/>
            <a:chOff x="9101160" y="2743200"/>
            <a:chExt cx="2141640" cy="1219320"/>
          </a:xfrm>
        </p:grpSpPr>
        <p:sp>
          <p:nvSpPr>
            <p:cNvPr id="673" name="Rounded Rectangle 19"/>
            <p:cNvSpPr/>
            <p:nvPr/>
          </p:nvSpPr>
          <p:spPr>
            <a:xfrm>
              <a:off x="9101160" y="2743200"/>
              <a:ext cx="2141640" cy="1219320"/>
            </a:xfrm>
            <a:prstGeom prst="roundRect">
              <a:avLst>
                <a:gd name="adj" fmla="val 16667"/>
              </a:avLst>
            </a:prstGeom>
            <a:solidFill>
              <a:srgbClr val="3a49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ounded Rectangle 13"/>
            <p:cNvSpPr/>
            <p:nvPr/>
          </p:nvSpPr>
          <p:spPr>
            <a:xfrm>
              <a:off x="9171000" y="2801880"/>
              <a:ext cx="2001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. Develop and implement IT syst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83"/>
          <p:cNvGrpSpPr/>
          <p:nvPr/>
        </p:nvGrpSpPr>
        <p:grpSpPr>
          <a:xfrm>
            <a:off x="11349000" y="2743200"/>
            <a:ext cx="2138400" cy="1219320"/>
            <a:chOff x="11349000" y="2743200"/>
            <a:chExt cx="2138400" cy="1219320"/>
          </a:xfrm>
        </p:grpSpPr>
        <p:sp>
          <p:nvSpPr>
            <p:cNvPr id="676" name="Rounded Rectangle 22"/>
            <p:cNvSpPr/>
            <p:nvPr/>
          </p:nvSpPr>
          <p:spPr>
            <a:xfrm>
              <a:off x="11349000" y="2743200"/>
              <a:ext cx="2138400" cy="1219320"/>
            </a:xfrm>
            <a:prstGeom prst="roundRect">
              <a:avLst>
                <a:gd name="adj" fmla="val 16667"/>
              </a:avLst>
            </a:prstGeom>
            <a:solidFill>
              <a:srgbClr val="3da8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ounded Rectangle 15"/>
            <p:cNvSpPr/>
            <p:nvPr/>
          </p:nvSpPr>
          <p:spPr>
            <a:xfrm>
              <a:off x="11418840" y="2801880"/>
              <a:ext cx="20005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6. Operate and susta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8" name="Straight Arrow Connector 35"/>
          <p:cNvCxnSpPr/>
          <p:nvPr/>
        </p:nvCxnSpPr>
        <p:spPr>
          <a:xfrm>
            <a:off x="456840" y="4241880"/>
            <a:ext cx="12231000" cy="2160"/>
          </a:xfrm>
          <a:prstGeom prst="straightConnector1">
            <a:avLst/>
          </a:prstGeom>
          <a:ln w="9360">
            <a:solidFill>
              <a:srgbClr val="2264a5"/>
            </a:solidFill>
            <a:miter/>
            <a:tailEnd len="med" type="arrow" w="med"/>
          </a:ln>
        </p:spPr>
      </p:cxnSp>
      <p:sp>
        <p:nvSpPr>
          <p:cNvPr id="679" name="Rounded Rectangle 24"/>
          <p:cNvSpPr/>
          <p:nvPr/>
        </p:nvSpPr>
        <p:spPr>
          <a:xfrm>
            <a:off x="343080" y="4978440"/>
            <a:ext cx="12915720" cy="50796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Management Office/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ounded Rectangle 25"/>
          <p:cNvSpPr/>
          <p:nvPr/>
        </p:nvSpPr>
        <p:spPr>
          <a:xfrm>
            <a:off x="343080" y="5689440"/>
            <a:ext cx="12915720" cy="508320"/>
          </a:xfrm>
          <a:prstGeom prst="roundRect">
            <a:avLst>
              <a:gd name="adj" fmla="val 16667"/>
            </a:avLst>
          </a:prstGeom>
          <a:solidFill>
            <a:srgbClr val="2666a6"/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Management 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27"/>
          <p:cNvSpPr/>
          <p:nvPr/>
        </p:nvSpPr>
        <p:spPr>
          <a:xfrm>
            <a:off x="4346280" y="1320840"/>
            <a:ext cx="7131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900" spc="-1" strike="noStrike">
                <a:solidFill>
                  <a:srgbClr val="3a4972"/>
                </a:solidFill>
                <a:latin typeface="Arial"/>
              </a:rPr>
              <a:t>?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Shape 29"/>
          <p:cNvCxnSpPr>
            <a:stCxn id="681" idx="1"/>
          </p:cNvCxnSpPr>
          <p:nvPr/>
        </p:nvCxnSpPr>
        <p:spPr>
          <a:xfrm flipV="1" rot="10800000">
            <a:off x="1199520" y="1609200"/>
            <a:ext cx="3143880" cy="524880"/>
          </a:xfrm>
          <a:prstGeom prst="bentConnector3">
            <a:avLst>
              <a:gd name="adj1" fmla="val 50000"/>
            </a:avLst>
          </a:prstGeom>
          <a:ln w="38160">
            <a:solidFill>
              <a:srgbClr val="3da8d5"/>
            </a:solidFill>
            <a:miter/>
            <a:headEnd len="med" type="triangle" w="med"/>
          </a:ln>
        </p:spPr>
      </p:cxnSp>
      <p:sp>
        <p:nvSpPr>
          <p:cNvPr id="683" name="Oval 28"/>
          <p:cNvSpPr/>
          <p:nvPr/>
        </p:nvSpPr>
        <p:spPr>
          <a:xfrm>
            <a:off x="-228600" y="1828800"/>
            <a:ext cx="2971800" cy="2819520"/>
          </a:xfrm>
          <a:prstGeom prst="ellipse">
            <a:avLst/>
          </a:prstGeom>
          <a:solidFill>
            <a:srgbClr val="2666a6">
              <a:alpha val="5000"/>
            </a:srgbClr>
          </a:solidFill>
          <a:ln w="25560">
            <a:solidFill>
              <a:srgbClr val="194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343080" y="2590920"/>
            <a:ext cx="12801600" cy="59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e clear vision &amp;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Prioritization of services an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Incorporate domestic and global l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Identify institutional structures &amp; capacities for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e fund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-488880">
              <a:lnSpc>
                <a:spcPct val="150000"/>
              </a:lnSpc>
              <a:spcBef>
                <a:spcPts val="862"/>
              </a:spcBef>
              <a:spcAft>
                <a:spcPts val="862"/>
              </a:spcAft>
              <a:buClr>
                <a:srgbClr val="081e26"/>
              </a:buClr>
              <a:buFont typeface="Arial"/>
              <a:buChar char="•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800" spc="-1" strike="noStrike">
                <a:solidFill>
                  <a:srgbClr val="081e26"/>
                </a:solidFill>
                <a:latin typeface="Arial"/>
                <a:ea typeface="Arial"/>
              </a:rPr>
              <a:t>Define monitoring and evaluation approa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43080" y="101160"/>
            <a:ext cx="12344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-Governance Project Life Cycle (eGLC)</a:t>
            </a:r>
            <a:endParaRPr b="0" lang="en-US" sz="27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86" name="Title 1"/>
          <p:cNvSpPr/>
          <p:nvPr/>
        </p:nvSpPr>
        <p:spPr>
          <a:xfrm>
            <a:off x="290520" y="896760"/>
            <a:ext cx="12458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3a4972"/>
                </a:solidFill>
                <a:latin typeface="Arial"/>
              </a:rPr>
              <a:t>PHASE 1: VISION &amp; STRATEGY DEVELOPME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900000" y="1890720"/>
            <a:ext cx="3824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KEY ACTIVI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B. G. GUPTA</dc:creator>
  <dc:description/>
  <dc:language>en-US</dc:language>
  <cp:lastModifiedBy>MD</cp:lastModifiedBy>
  <cp:lastPrinted>2013-01-18T06:05:01Z</cp:lastPrinted>
  <dcterms:modified xsi:type="dcterms:W3CDTF">2013-09-23T07:55:20Z</dcterms:modified>
  <cp:revision>175</cp:revision>
  <dc:subject/>
  <dc:title>Slide 1</dc:title>
</cp:coreProperties>
</file>